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0843-3BA2-480A-AE97-A6EAA4EB50C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disp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ed očima, vedle, nad hlavo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ptickým kabelem do o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ukav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loha i pohyb ru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pořit síly okamžité reakce a připravit na hlavní obrané sí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oti vnějšímu vvojenskému napade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lnění cílů samostatně i ve spolupráci se spojen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rmáda musí disponovat potřebnou technikou a počtem voják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 ministerstvo or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D39-6E45-49E8-951E-E8C9E448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7AE-1229-456F-A0B5-C70EFEB6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8EF-1E47-4EFE-A2BC-9F47DC4D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F81-6EE5-45C5-B6D0-F77AF24A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662-06FE-49DF-98DB-11C3A1DE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B955-7A38-4FF1-BF3D-5935477D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81F0-6469-4C44-BFBA-FBBCB189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2DD5-AFDF-4DD4-A52D-E1CA35E8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09A3-97BB-466D-9583-8D66C991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06668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E0F6-8EB9-47DF-A5A7-9F24D1AC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0972-51FE-4D49-9DA8-860F765D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565-B42D-42A8-9007-7F13864B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DFC6-E6B9-46AA-ABC8-5D1DACFC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F754-2F9C-4588-A84F-B88D9B1D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7E85-C331-4924-B058-C5E45E64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3E27-1CF4-42E8-A661-D7559967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7481-B478-4F2B-B0A5-B92B63E3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4AE-735C-45AE-A057-2EF05A3E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230-FA41-4FF4-9A5A-4FB7CDD7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144-B5B6-48D3-B769-DCE7BA74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06668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CBE-82FF-46C6-9DF6-BDA19F8B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7A9-0FF0-43E5-884F-590C90F1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121-C2E7-4070-BC70-CC2C5153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B734-D5C0-44C3-A73A-AC0B14A4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11BC-E8D0-424B-8EF4-7F0B4DA864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9907-C025-4E31-9B25-1471DFD7B2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66"/>
                </a:solidFill>
                <a:latin typeface="Times New Roman"/>
              </a:rPr>
              <a:t>Komerius s.r.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ás na naší prezent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orové vidě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 od ob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álenost ob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y prostorového vi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ov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olog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reoskop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orové vidě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orba 3D ob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ropár/ste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uální vno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hel pohl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ekvence obnovení displ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ční sled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plej (CRT, LCD) - rozli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 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alší prostředky V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mače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drát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ové ruka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mulá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prostřed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ádací 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 hel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irtuální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sign (C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variant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ání variant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vnost, odo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erodynam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y motorického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irtuální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timalizace vybrané vari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motnost, ob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stranění kolizí/problémů s montá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výrobních postupů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í sim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výrobu/ser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řidiče/pil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ýhody prototyp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nákladu na prototy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rácení vývojového cyk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utí se chyb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chanické vlas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lize pohyblivých d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ožnost montá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pší komunikace návrhář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yuži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žky podle operačního 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y okamžité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y rychlé re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ranné sí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íly okamžité reak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akce max. do 2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kamžitá připrave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í trénink speciálních jedno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jenské sit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simu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íly rychlé reak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x. do 30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konalé zvládnutí vojenské tech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 využití bojové techniky (simu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ní/vývoj vhodné bojové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lavní obranné sí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é nasazení do 180 d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o síly rychlého nas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ba mostů/opev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ce (prototy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cvik stav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vik manipulace s d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mulování davové psychó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3366"/>
                </a:solidFill>
                <a:latin typeface="Times New Roman"/>
              </a:rPr>
              <a:t>Komerius s.r.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ložena v září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í pracovní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ce pro vlád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pracování informačních stud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moderních informační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alší využití V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ění cílů interoperability s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é způsoby 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ání krizových situ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zkoušení před uzavřením kontr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énink řídících center/obsluh radarů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porné výh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ouhodobá konce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členy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jeji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na nových projek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soké počáteční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Informační zdroj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otéka VŠE: ABI in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stská knihovna v Pr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niha Steve Aukstakalnis: „Reálně o virtuální realitě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máda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rtM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E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m. W. Chuchilla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ha 3, 130 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atel: Ladislav Červi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: 060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7 77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xcerl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vse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8200" y="106668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Konec prezent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66760" y="41349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adavatel 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máda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rana st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ržení či nastolení m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ení závazků (charta OSN, mezinárodní smlouv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iminace nevojenských ohr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e spoj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nistr RNDr. Vladimír Vetchý, CS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8576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Times New Roman"/>
              </a:rPr>
              <a:t>Zadání IS:</a:t>
            </a:r>
            <a:br>
              <a:rPr sz="3600"/>
            </a:b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yužití systémů virtuální reality v armád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2561760"/>
            <a:ext cx="7665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bídka prostředků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mplementace pro využití v A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vikové syst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lších oblastí 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ýchozí podmín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ý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výpočetní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V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 do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nanční 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00 tisíc Kč, 1900 tisíc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íle stud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žn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vest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ýšení efe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énin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jových schopností vojá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Informační stud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ky VR a sim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rtuální prot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rostředky virtuální rea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tor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atní smy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VR Helm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ůležitější prvek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hl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oč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6:48:32Z</dcterms:created>
  <dc:creator>Martin</dc:creator>
  <dc:description/>
  <dc:language>en-US</dc:language>
  <cp:lastModifiedBy>Martin</cp:lastModifiedBy>
  <dcterms:modified xsi:type="dcterms:W3CDTF">1999-01-05T08:48:34Z</dcterms:modified>
  <cp:revision>17</cp:revision>
  <dc:subject/>
  <dc:title>Informační studie</dc:title>
</cp:coreProperties>
</file>