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36A1-9475-4178-8393-C8FEBE37835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loha displ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ed očima, vedle, nad hlavou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optickým kabelem do o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ukavi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loha i pohyb ru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dpořit síly okamžité reakce a připravit na hlavní obrané sí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oti vnějšímu vvojenskému napaden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lnění cílů samostatně i ve spolupráci se spojen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Armáda musí disponovat potřebnou technikou a počtem voják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d ministerstvo orb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62FB-1812-4035-8F5C-43D672F2B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2F29-BC95-492E-A071-55C0DCD8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85F8-5AF5-44C1-B0E2-1F6594697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307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4950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66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3307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54950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E14D-7A8F-4008-BECB-AEF522F96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7A34-A3AC-4D0E-B015-B040572DC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0953-E893-414C-8C44-EC9F3C46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46BE-71EB-49A2-A0E5-588A5627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A6F2-BD0A-4B3B-9B4F-8FE109A9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6F85-C4F8-45B3-8E13-B55139BD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1066680"/>
            <a:ext cx="7772400" cy="65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8136-ECE9-4DF1-8835-3A61DF55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7FBE-493F-4A36-A212-C2AA51AE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97FC-444F-418B-AC31-E0785136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6362-F4E3-4328-BB00-1788DC22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6321-F313-41EA-8475-5D9CF953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86D3-03F9-4CB0-89EF-7A429EF7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056FD-5DD9-4597-B200-48296D205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307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4950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66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307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4950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A34C-CA53-4DC5-B19B-781C57A1D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1102-12CD-438C-89E1-A3C7D96D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8E20-C070-40EF-8573-6E910FCE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2276-9CB3-4080-8C12-BD29B8A9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1066680"/>
            <a:ext cx="7772400" cy="65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F0E8-D816-4DB3-A47A-18F906C5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BCA4-400B-48A0-A5FE-27B1730B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78B4-C673-409F-813B-597F0E1A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B3C3-0D2D-41FB-9598-E02A39D5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FDA0-39F6-42F0-B212-900AA853B30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0F6F-13FC-4443-85BC-605ED5CE75C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3366"/>
                </a:solidFill>
                <a:latin typeface="Times New Roman"/>
              </a:rPr>
              <a:t>Komerius s.r.o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430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ítáme Vás na naší prezenta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rostorové viděn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dálenost od ob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dálenost objek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ruhy prostorového vid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tic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ybov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yziologic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reoskopic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rostorové viděn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vorba 3D obraz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ropár/sterogr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izuální vnoř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hel pohl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rekvence obnovení disple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ční sled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splej (CRT, LCD) - rozliš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ptické prv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alší prostředky V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nímače pohy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ezdrátov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tové ruka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mulát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ravní prostředk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vládací prv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ez hel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Virtuální prototypován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sign (C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voj variant konstru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stování variant konstru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evnost, odo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erodynam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y motorického syst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Virtuální prototypován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ptimalizace vybrané varia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motnost, obj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rgono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stranění kolizí/problémů s montáž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 výrobních postupů (C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oření simuláto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 výrobu/ser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 řidiče/pilo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Výhody prototypován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nížení nákladu na prototy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krácení vývojového cyk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hnutí se chybá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chanické vlast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lize pohyblivých dí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možnost montá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pší komunikace návrhář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Využit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ložky podle operačního využi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íly okamžité rea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íly rychlé rea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lavní obranné sí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stat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Síly okamžité reak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akce max. do 2 dn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kamžitá připrave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užití V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lastní trénink speciálních jednot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ojenské situ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stat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ategické simul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Síly rychlé reak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x. do 30 dn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konalé zvládnutí vojenské techn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užití V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énink využití bojové techniky (simul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užívání/vývoj vhodné bojové techn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Hlavní obranné síl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lné nasazení do 180 dn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užití V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o síly rychlého nasa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vba mostů/opevn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strukce (prototyp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cvik stav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cvik manipulace s d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imulování davové psychóz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3366"/>
                </a:solidFill>
                <a:latin typeface="Times New Roman"/>
              </a:rPr>
              <a:t>Komerius s.r.o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ložena v září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ladí pracovní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áce pro vládní organ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pracování informačních stud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užití moderních informační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alší využití V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lnění cílů interoperability s N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vé způsoby ovlád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stování krizových situ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zkoušení před uzavřením kontra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rénink řídících center/obsluh radarů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Shrnut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sporné výh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louhodobá koncep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lupráce s členy N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užití jejich prostřed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upráce na nových projekt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soké počáteční nák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Informační zdroj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diotéka VŠE: ABI in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ěstská knihovna v Pra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niha Steve Aukstakalnis: „Reálně o virtuální realitě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rmáda Č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irtM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Kontak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ER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m. W. Chuchilla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ha 3, 130 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natel: Ladislav Červin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l: 060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47 77 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xcerl1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@vse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820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Konec prezenta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166760" y="41349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ěkujeme za poz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adavatel 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máda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rana stá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držení či nastolení mí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držení závazků (charta OSN, mezinárodní smlouv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liminace nevojenských ohrož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upráce se spojen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inistr RNDr. Vladimír Vetchý, CS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185760"/>
            <a:ext cx="7467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3366"/>
                </a:solidFill>
                <a:latin typeface="Times New Roman"/>
              </a:rPr>
              <a:t>Zadání IS:</a:t>
            </a:r>
            <a:br>
              <a:rPr sz="3600"/>
            </a:b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Využití systémů virtuální reality v armádě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2561760"/>
            <a:ext cx="76658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bídka prostředků V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mplementace pro využití v A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cvikové systém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imu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én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 dalších oblastí využi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Výchozí podmínk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učasný sta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užití výpočetní techn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užití V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stup do N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 interope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inanční sta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900 tisíc Kč, 1900 tisíc K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íle studi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nížení náklad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ěžný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vestičn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výšení efektiv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énin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jových schopností vojá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bav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Informační studi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středky VR a simu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irtuální prototy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uži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rostředky virtuální realit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stup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toric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ptic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stup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ptic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tatní smy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míše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VR Helm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ůležitější prvek V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s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r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s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yb hl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yb oč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4T16:48:32Z</dcterms:created>
  <dc:creator>Martin</dc:creator>
  <dc:description/>
  <dc:language>en-US</dc:language>
  <cp:lastModifiedBy>Martin</cp:lastModifiedBy>
  <dcterms:modified xsi:type="dcterms:W3CDTF">1999-01-05T08:48:34Z</dcterms:modified>
  <cp:revision>17</cp:revision>
  <dc:subject/>
  <dc:title>Informační studie</dc:title>
</cp:coreProperties>
</file>