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F59-3F69-48EF-932D-FB8EF8AA4E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disp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ed očima, vedle, nad hlavo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ptickým kabelem do o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ukav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i pohyb ru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pořit síly okamžité reakce a připravit na hlavní obrané sí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ti vnějšímu vvojenskému napad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lnění cílů samostatně i ve spolupráci se spojen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rmáda musí disponovat potřebnou technikou a počtem voják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 ministerstvo or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014-DD55-4297-979A-8D556512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4ED-A6B7-4E92-A1C9-C4E76372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F75-7680-4AF3-9F27-AC982C3E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CF8-C576-4D2D-86D3-6460E743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5488-451C-475D-9732-E9096F2F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4881-58F5-4320-A1D8-6D68939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2458-443A-4AB3-8E30-CD843C6C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DB3D-4BAB-45DD-885E-AAD95505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B242-49EC-493D-97F5-D41A4162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9D08-636F-43CA-B5EC-7842A6A4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7DC4-24DE-48C9-8811-8F779D97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6A7-B5CF-488C-94CC-0409A443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071E-04F5-4F33-8E76-22D5F91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21EC-3198-44A2-8982-B00B502E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C159-A658-4854-9C33-0E396AC4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CB2C-9CAC-4C53-B4F9-2C87B61C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BE2A-1FAE-4283-A3A1-07FA092B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EDC-B438-485A-A98A-5BABD3E0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80D-C6E3-4A5D-8E92-4B52E575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4AE-3DA0-4038-8802-F5414BC7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5D6-0B84-44E7-B12A-D68F28E6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752-B35E-4EFA-830C-2FF25B4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4CE-8D18-4E50-8A4F-DD6E5DDE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0F2-0A19-48E1-A3D6-C842EB9D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C320-5DB2-4A43-BBB9-BF62CC68BD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5942-FB75-42F1-B944-E1C331B96B3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ás na naší prezent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d ob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b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y prostorového vi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olog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eoskop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rba 3D ob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opár/ste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uální vno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hel pohl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ekvence obnovení displ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ční sled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plej (CRT, LCD) - rozli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prostředky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mače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drát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ové ruka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mulá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prostř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ací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hel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sign 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ost, odo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erodynam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y motorického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timalizace vybrané vari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motnost, ob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stranění kolizí/problémů s montá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výrobních postupů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sim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výrobu/ser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řidiče/pi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hody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u na prototy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rácení vývojového cyk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utí se chyb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chanické vla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ize pohyblivých d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ožnost montá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pší komunikace návrh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žky podle operačního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okamžit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rychl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ranné sí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okamžit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akce max. do 2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amžitá připrave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 trénink speciálních jedno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jenské sit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simu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rychl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x. do 3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konalé zvládnutí vojenské tech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 využití bojové techniky (simu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ní/vývoj vhodné bojové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lavní obranné sí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é nasazení do 18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síly rychlého nas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ba mostů/opev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ce (proto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vik stav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 manipulace s d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mulování davové psychó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ložena v září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í pracovní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ce pro vlád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pracování informačních stu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moderních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využití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ění cílů interoperability s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způsoby 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krizových situ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zkoušení před uzavřením kontr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énink řídících center/obsluh radarů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rné vý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á konce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členy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jeji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na nových projek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soké počáteční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zdroj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otéka VŠE: ABI i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stská knihovna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a Steve Aukstakalnis: „Reálně o virtuální realit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rtM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E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m. W. Chuchill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ha 3, 130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atel: Ladislav Červi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: 06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7 77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xcerl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vs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820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ec prezent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66760" y="4134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adavatel 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rana st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ržení či nastolení m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ení závazků (charta OSN, mezinárodní smlou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iminace nevojenských ohr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e spoj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istr RNDr. Vladimír Vetchý, CS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8576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Zadání IS:</a:t>
            </a:r>
            <a:br>
              <a:rPr sz="3600"/>
            </a:b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 systémů virtuální reality v armád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2561760"/>
            <a:ext cx="7665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bídka prostředků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mplementace pro využití v A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ové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lších oblastí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chozí podmín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ý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ýpočetní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 do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00 tisíc Kč, 1900 tisíc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íle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ž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vest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efe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jových schopností vojá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ky VR a sim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rtuální prot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ředky virtuální rea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or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 smy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R Helm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ůležitější prvek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oč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6:48:32Z</dcterms:created>
  <dc:creator>Martin</dc:creator>
  <dc:description/>
  <dc:language>en-US</dc:language>
  <cp:lastModifiedBy>Martin</cp:lastModifiedBy>
  <dcterms:modified xsi:type="dcterms:W3CDTF">1999-01-05T08:48:34Z</dcterms:modified>
  <cp:revision>17</cp:revision>
  <dc:subject/>
  <dc:title>Informační studie</dc:title>
</cp:coreProperties>
</file>