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115C-0641-4FDF-B5EA-3A47D16195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disp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ed očima, vedle, nad hlavo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ptickým kabelem do o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ukav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i pohyb ru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pořit síly okamžité reakce a připravit na hlavní obrané sí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ti vnějšímu vvojenskému napade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lnění cílů samostatně i ve spolupráci se spojen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rmáda musí disponovat potřebnou technikou a počtem voják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 ministerstvo or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D7B-705F-412E-813C-DF9EF677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418-8FCC-4A2D-AF7F-363D10B4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97A-4AA7-4D48-93EA-68BAA1D6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6DC-45CC-432C-B5D1-BF3C18A1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578C-6A75-4DC3-96E8-FC57F953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AA3D-8325-4B75-9277-6C1C6DAB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2464-0BD6-4AEF-81FE-2D00B340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365E-D0E6-4E2B-9C8C-6AA7A68F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3A6A-FD89-4E07-9056-8F1C8B08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814D-8FC9-4B97-A67C-7544E38F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C670-F01F-465D-A9AF-B61B689C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D3E-AB8D-40BB-B7ED-77DBFBA0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8873-A10E-4CE8-86DA-A64B4FA0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A147-AB5C-4B91-AF50-EC9C9B66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CF9A-6715-4243-A2E9-CA6C810D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20C3-804D-432B-B5C5-A2EACA1C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5F25-63DA-4635-9F96-0A89631C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DD6-02CF-4D04-8B32-B250FCB3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3C9-95EA-48D3-89D9-2059331F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5FB-DB7D-4D37-8129-73BC98A1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2A0-F74E-4904-AC25-FE33A342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268-B04F-4306-86C2-4E941C9A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5AC-1272-4478-8920-254B03E3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DEF-93B7-4B52-A1CC-1E0F060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67A7-73A0-428C-B0B0-DF56FA7D3B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BF2F-AE62-469E-8BA2-4D5A9C1BB1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ás na naší prezent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d ob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b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y prostorového vi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olog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eoskop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orba 3D ob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opár/ste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uální vno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hel pohl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ekvence obnovení displ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ční sled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plej (CRT, LCD) - rozli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prostředky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mače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drát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ové ruka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mulá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prostř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ádací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hel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sign 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vnost, odo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erodynam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y motorického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timalizace vybrané vari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motnost, ob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stranění kolizí/problémů s montá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výrobních postupů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í sim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výrobu/ser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řidiče/pil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hody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u na prototy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rácení vývojového cyk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utí se chyb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chanické vla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ize pohyblivých d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ožnost montá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pší komunikace návrh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žky podle operačního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okamžit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rychl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ranné sí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okamžit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akce max. do 2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amžitá připrave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í trénink speciálních jedno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jenské sit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simu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rychl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x. do 3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konalé zvládnutí vojenské tech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 využití bojové techniky (simu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ní/vývoj vhodné bojové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lavní obranné sí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é nasazení do 18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síly rychlého nas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ba mostů/opev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ce (prototy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vik stav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 manipulace s d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mulování davové psychó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ložena v září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í pracovní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ce pro vlád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pracování informačních stud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moderních informační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využití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ění cílů interoperability s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é způsoby 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krizových situ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zkoušení před uzavřením kontr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énink řídících center/obsluh radarů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rné vý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á konce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členy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jeji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na nových projek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soké počáteční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zdroj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otéka VŠE: ABI i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stská knihovna v P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a Steve Aukstakalnis: „Reálně o virtuální realitě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rtM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E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m. W. Chuchilla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ha 3, 130 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atel: Ladislav Červi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: 06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7 77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xcerl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vs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820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ec prezent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66760" y="41349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adavatel 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rana st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ržení či nastolení m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ení závazků (charta OSN, mezinárodní smlouv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iminace nevojenských ohr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e spoj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istr RNDr. Vladimír Vetchý, CS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8576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Zadání IS:</a:t>
            </a:r>
            <a:br>
              <a:rPr sz="3600"/>
            </a:b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 systémů virtuální reality v armád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2561760"/>
            <a:ext cx="7665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bídka prostředků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mplementace pro využití v A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ové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lších oblastí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chozí podmín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ý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ýpočetní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 do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anční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00 tisíc Kč, 1900 tisíc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íle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ž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vest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ení efe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jových schopností vojá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ky VR a sim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rtuální prot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ředky virtuální rea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tor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 smy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R Helm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ůležitější prvek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oč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6:48:32Z</dcterms:created>
  <dc:creator>Martin</dc:creator>
  <dc:description/>
  <dc:language>en-US</dc:language>
  <cp:lastModifiedBy>Martin</cp:lastModifiedBy>
  <dcterms:modified xsi:type="dcterms:W3CDTF">1999-01-05T08:48:34Z</dcterms:modified>
  <cp:revision>17</cp:revision>
  <dc:subject/>
  <dc:title>Informační studie</dc:title>
</cp:coreProperties>
</file>