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D619-915F-48B1-ACE4-1D8EB18F68C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loha displ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ed očima, vedle, nad hlavo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optickým kabelem do o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ukavi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loha i pohyb ru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pořit síly okamžité reakce a připravit na hlavní obrané sí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oti vnějšímu vvojenskému napade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lnění cílů samostatně i ve spolupráci se spojen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rmáda musí disponovat potřebnou technikou a počtem voják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 ministerstvo or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F20B-0A02-47DB-9EC8-104FB5B7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469B-72BD-4F76-A670-0E185497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37D-F081-4975-8C43-05CE8EA3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403-6946-4002-89C9-C6291636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9A18-4173-410B-9398-C62EBD0A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A2E9-89F9-4AC9-9478-AEC1F8E7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7256-18C4-4344-8F85-EC8A6E15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92B5-E3C6-4E70-8E7D-E4E82E41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BE85-36A1-4134-888A-9F9DB12D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1066680"/>
            <a:ext cx="7772400" cy="65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F553-CC6F-4F7E-8F63-FF4A41C4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E83E-52FB-4970-BB17-13289C74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0BC-FB25-4D2F-AC96-09D9B0D9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F118-A271-4934-954F-E850EC4E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6B14-F442-4C69-9018-62DDA6C4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15EA-76D2-4270-BEA2-79002E13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9FD6-55C2-4424-B514-0455B68D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6ED6-F893-4D97-838A-0B4599B2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C1A-54A4-4E2B-B9F3-6B0D030F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FC7-9113-4068-B809-0FBD3B95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4FE2-365F-43E5-A448-0DB5E0AA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1066680"/>
            <a:ext cx="7772400" cy="65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8EC-3720-48F0-8D07-A8AF6D7C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185-3E5E-4287-A7FC-4F4A9E05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F55-CA32-48BB-AE8F-16F29374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418-6DEB-4A61-A06F-AF76C183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2A5F-94EC-4B3D-9A66-3A58FB3C63E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1162-013F-4ABE-9EE7-37AA5F00A88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3366"/>
                </a:solidFill>
                <a:latin typeface="Times New Roman"/>
              </a:rPr>
              <a:t>Komerius s.r.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430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ás na naší prezent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rostorové vidě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álenost od ob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álenost ob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uhy prostorového vid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ov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yziolog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reoskop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rostorové vidě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vorba 3D ob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ropár/ste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zuální vno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hel pohl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rekvence obnovení disple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ční sled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plej (CRT, LCD) - rozli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cké pr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alší prostředky V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ímače pohy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zdráto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tové ruka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mulá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prostřed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ládací pr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z hel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irtuální prototypová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sign (C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variant konstr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ání variant konstr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vnost, odo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erodynam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y motorického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irtuální prototypová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ptimalizace vybrané vari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motnost, obj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stranění kolizí/problémů s montá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výrobních postupů (C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oření simulát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výrobu/ser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řidiče/pil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ýhody prototypová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ížení nákladu na prototy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krácení vývojového cyk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hnutí se chyb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chanické vlast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lize pohyblivých dí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možnost montá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pší komunikace návrhář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yužit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ožky podle operačního využi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ly okamžité re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ly rychlé re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obranné sí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sta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íly okamžité reak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akce max. do 2 d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kamžitá připrave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í trénink speciálních jedno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jenské situ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sta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simul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íly rychlé reak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x. do 30 d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konalé zvládnutí vojenské techn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énink využití bojové techniky (simul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ívání/vývoj vhodné bojové techn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Hlavní obranné sí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né nasazení do 180 d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o síly rychlého nasa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vba mostů/opevn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trukce (prototy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cvik stav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vik manipulace s d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mulování davové psychóz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3366"/>
                </a:solidFill>
                <a:latin typeface="Times New Roman"/>
              </a:rPr>
              <a:t>Komerius s.r.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ložena v září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ladí pracovní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áce pro vládní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pracování informačních stud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moderních informační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alší využití V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nění cílů interoperability s 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é způsoby 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ání krizových situ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zkoušení před uzavřením kontra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énink řídících center/obsluh radarů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sporné výh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louhodobá koncep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práce s členy 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jeji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na nových projek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soké počáteční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Informační zdroj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diotéka VŠE: ABI in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ěstská knihovna v Pr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niha Steve Aukstakalnis: „Reálně o virtuální realitě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máda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rtM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Kontak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E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m. W. Chuchilla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ha 3, 130 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atel: Ladislav Červi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: 060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7 77 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xcerl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vse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820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Konec prezenta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66760" y="41349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adavatel 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máda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rana st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držení či nastolení mí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držení závazků (charta OSN, mezinárodní smlouv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iminace nevojenských ohr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e spoje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nistr RNDr. Vladimír Vetchý, CS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185760"/>
            <a:ext cx="7467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Times New Roman"/>
              </a:rPr>
              <a:t>Zadání IS:</a:t>
            </a:r>
            <a:br>
              <a:rPr sz="3600"/>
            </a:b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yužití systémů virtuální reality v armádě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2561760"/>
            <a:ext cx="76658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bídka prostředků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mplementace pro využití v A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vikové systé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m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én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lších oblastí využi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ýchozí podmínk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časný st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výpočetní techn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stup do 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nanční st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00 tisíc Kč, 1900 tisíc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íle stud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ížení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ěžn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vestičn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ýšení efekti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énin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jových schopností vojá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ba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Informační stud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ky VR a sim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irtuální proto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rostředky virtuální real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stup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tor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tatní smy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míše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R Helm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ůležitější prvek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r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s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hl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oč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6:48:32Z</dcterms:created>
  <dc:creator>Martin</dc:creator>
  <dc:description/>
  <dc:language>en-US</dc:language>
  <cp:lastModifiedBy>Martin</cp:lastModifiedBy>
  <dcterms:modified xsi:type="dcterms:W3CDTF">1999-01-05T08:48:34Z</dcterms:modified>
  <cp:revision>17</cp:revision>
  <dc:subject/>
  <dc:title>Informační studie</dc:title>
</cp:coreProperties>
</file>