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1961-5C65-498F-8D9F-455637E4F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499C-26E4-4DE8-A8D4-702FF7864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CEAF-654C-4AA5-8F0B-7B9D8BFF0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F992-E9E5-49FE-9F26-1E3B0D75D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D5DC2-AF5E-4381-A9AB-5E3E34D34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6D267-14B9-42FB-BB83-9BDA76B62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DA909-F245-483D-8A82-65C9EE427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20927-E16A-4DED-954A-8C7A2B49C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C0FA3-E9FB-4168-AA97-E582E4673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DA967-43DB-446C-89DA-FC8925D20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D50A5-79EC-4233-8860-7A2EE07E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B5E2-B287-47C0-934C-32764BE22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9FD01-2E56-47C7-B365-918DA654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31F51-CB63-4AAA-A1DE-D3440AB9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4ACBD-2562-4887-912B-72B3CBBB8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9B390-BFD8-4B9E-90B4-C0A244E63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346A6-A5E7-4219-80EF-FEB8B3D9A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A917-006A-436F-B866-B87D9DD45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C16A-5F0C-4033-BC0B-12F40CD28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F08C-E098-4AE1-B530-A827BDC5D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2E1F-40AF-4C05-A916-F4AFF2D09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5E29-78E2-478B-AABD-9BEE1ECF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1310-8D0D-4EE4-91EA-C0DE1670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6BA4-A3E5-4AA9-A587-95BEE436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Studie o možnostech využití Internetu pro prezentaci </a:t>
            </a:r>
            <a:br>
              <a:rPr sz="4400"/>
            </a:b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hl.m. Prah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400" y="3885840"/>
            <a:ext cx="678168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Gabriela Hanzlová, Martin Přikry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etr Kvasnička, Matěj Pre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Cíl stud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Vybraná měs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Důvody výběr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Evrop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Berlin, Vídeň, Helsinky, Kodaň, Londýn, Paříž, Lyon, Lisabon, Řím, Stockholm, Osl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Spojené státy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Poskytované služb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Informace pro obyvatele města, turisty, podnikatele, studenty,…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Jazykové verz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lán měst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lastní vyhledávač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Odkazy na nejrůznější institu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Zjištěné nedostatk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Čeho se vyvarov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jazykové verz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nejednotnost stráne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funkčnost služeb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2T07:47:05Z</dcterms:created>
  <dc:creator>Učebny</dc:creator>
  <dc:description/>
  <dc:language>en-US</dc:language>
  <cp:lastModifiedBy>Martin Prikryl</cp:lastModifiedBy>
  <dcterms:modified xsi:type="dcterms:W3CDTF">2000-11-03T11:43:59Z</dcterms:modified>
  <cp:revision>6</cp:revision>
  <dc:subject/>
  <dc:title>Studie o možnostech využití Internetu pro prezentaci hl.m. Prahy</dc:title>
</cp:coreProperties>
</file>