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0D2-5E9E-4F03-B63E-8C008117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833-298B-4074-A78D-D6CD7ABA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F63-7972-42EF-A030-13815014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808-28BA-4384-B758-BAFAA352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259-35C9-4B49-9854-C044A54D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E279-C1AA-434B-AA0A-83DC7B6C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88C1-A9BB-432C-90F0-DF28B4FF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FA44-CEED-45FC-8F11-4351CD43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294B-3644-40DA-8707-568E2B3E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6DAD-E3A4-4101-A637-6CAFC96D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A4E4-C4E9-44CE-89DB-FEFB8489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42C-13DD-40F7-8358-A376C994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4F6A-78CD-4054-90D7-D87B710A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E720-A05C-42E9-BEC4-A2DBB96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19DF-9ABB-4CF0-84BF-C227B230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542B-3EE8-4909-9694-20BC36A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6D8A-A0A6-4581-B7B2-B0386C1B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4F2-7BE0-4EB2-9770-D0B1959D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8B2-6406-4E93-9415-DED8144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43D-A9BA-4E52-AEAB-FFD61071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545-3A3D-45B0-9237-123A18F9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60C-55A6-4676-8EBB-DA719FF3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690-6B15-41FD-AC20-DE12CFC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FD3-71B6-4574-BB25-C8442B7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C2C7-2276-4F89-862B-89689CD5840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D02-D232-4EB3-A85F-FA46C17D505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rovnání oficiálních Internetových stránek světových metropol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lastní vyhledava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ěž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íčová slova, výraz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oleovské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šířené (Turín, Amsterdam, 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ximitní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avo/levostranné rozšíř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matické skloňování/časová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AB1-8AC4-4BCE-9BA7-C863F313F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žnost konta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mail na osobní odděl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ntakty na úředníky, volené zástup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pravený formulá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asto jen na správce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ečně jen klasická pošta (Osl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F7C-700A-4E8C-8F53-89389024E2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rafický vzhl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zajímavějš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méně povede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ělení do sek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B1D-4964-4FB6-ADBE-4FD0FE1994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dkazy na jiné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B48-F008-4A76-8725-900AF43E2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e a správa strán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elká variabilita (DHTML, Java Script, CSS, ASP, CGI, PHP, Perl, Fl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ráva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ho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C48-F004-4960-A0F6-EBF9832CAB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ěrečné zhodnoc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2057400"/>
          <a:ext cx="74199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4199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9A2-B1C3-4003-8BD6-7022CF2142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zký 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o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běr mě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rčení oficiální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novení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hodnoc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věrečné srovn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FCF-4356-435C-9B6B-CD01D3AFD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rland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l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urí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8CA-953B-4CD1-8615-EF181BA2B5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jiné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28F-AE0A-40E7-AD0C-398B4C0462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zykové verz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jazyk + anglič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urín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ockholm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 (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ůzný obsah (zejména pro obyvate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AB1-5E97-47BB-9A72-6944E61581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ruhy poskytovaných informac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yvatelé města, návštěvníci a podnik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íly v informacích pro podnikatele a stude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ždy informace pro obyvatele (Orland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FF9-A70C-4EC8-AAD4-B67DB469ED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kazy na jiné strá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řejné instituce (ambasády, konzuláty, kulturní institu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celáře cestovního ruch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prava (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životní prostřed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čas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hotely a restaur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07E-97D9-498F-8A6A-6D970AA6C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n-line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ětšinou nízká úrove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ěstský časop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úřední formuláře ke staž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hled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vání v matrikách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ísto na parkování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F1A-E9C0-4556-94FF-700D75D0A4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lán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mezená funkč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, odkaz, chy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ní stanic me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stitu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mátek, parky a zahr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škol, sportovní areá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D99-5262-402C-B383-AFB428F052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1-01-19T07:12:12Z</dcterms:modified>
  <cp:revision>16</cp:revision>
  <dc:subject/>
  <dc:title>Studie o možnostech využití Internetu pro prezentaci hl.m. Prahy</dc:title>
</cp:coreProperties>
</file>