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146C-1A5E-40B8-9D81-DF0616DCB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5DB5-8D60-41E4-BA75-20843D9D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4116-E39B-4DC2-9FF4-369C0C3ED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0460-FDDA-4F11-B753-B974C6D44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AC7A-45DB-4F13-B2A8-D9161E4C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1D1D-7C5E-471A-8C90-1E20C3CD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BE12-78DA-4EC7-89AB-876F5573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BD81-1150-4C48-B13B-B33A31E0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042F-040F-472C-960E-BB8F484F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22B7-8695-49EA-B715-CE852026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09C8-4AAE-4BFD-94B0-00EA944E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7D57-641C-4454-A3FB-A9C93485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2B0A-22F9-402D-B09A-B03F47D0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553E-8522-41E6-8237-8494FB89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4E13-7F7E-4DC8-B72A-5CE05BE7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CE37-23E7-4F00-9DF5-03F7277E1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61F5-EE29-42F5-AE00-7272EDE90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4088-D8A4-42F5-AFC1-D68483B8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023A-C0EC-4C7C-9894-C09C8145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4604-56B6-4C85-BA74-D2777600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994B-07A9-4A22-8EC0-BA5BD1D6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9907-75C6-4C17-B3FB-6A4EA614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4DFC-4BFD-47AA-BF42-DC105E09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44B9-18A3-4D17-845E-6808ECC1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Studie o možnostech využití Internetu pro prezentaci </a:t>
            </a:r>
            <a:br>
              <a:rPr sz="4400"/>
            </a:b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hl.m. Prah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3885840"/>
            <a:ext cx="678168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Gabriela Hanzlová, Martin Přikry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etr Kvasnička, Matěj Pr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íl stud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Vybraná měs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ůvody výběr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Evrop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Berlin, Vídeň, Helsinky, Kodaň, Londýn, Paříž, Lyon, Lisabon, Řím, Stockholm, Osl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pojené stát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Poskytované služb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Informace pro obyvatele města, turisty, podnikatele, studenty,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azykové verz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lán měs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lastní vyhledáva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dkazy na nejrůznější institu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Zjištěné nedostatk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Čeho se vyvarov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jazykové verz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nejednotnost strán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funkčnost služeb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2T07:47:05Z</dcterms:created>
  <dc:creator>Učebny</dc:creator>
  <dc:description/>
  <dc:language>en-US</dc:language>
  <cp:lastModifiedBy>Martin Prikryl</cp:lastModifiedBy>
  <dcterms:modified xsi:type="dcterms:W3CDTF">2000-11-03T11:43:59Z</dcterms:modified>
  <cp:revision>6</cp:revision>
  <dc:subject/>
  <dc:title>Studie o možnostech využití Internetu pro prezentaci hl.m. Prahy</dc:title>
</cp:coreProperties>
</file>