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2C2-C521-41E4-A643-EEDDFE47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140-A340-42E4-AECD-6DEB9219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E70-9338-41F2-BABB-E1F499BE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AAD4-40AC-4BF2-8600-B219BB01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D502-1509-4E90-B6B9-46C59628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34EC-C4F3-4C18-BED2-991B44F9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C71C-2055-4518-A5FD-6C676B8E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6A77-10C6-42D5-9189-33B6FC3C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E434-DECC-4740-8476-E0807CC1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7AAE-A5CE-42DE-BF40-7DFCA817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6380-E0F2-466B-9113-5E409673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701-45D4-498E-A90B-54B4C1A1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2DE3-9D05-4D6F-B7E9-B25EECF4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D559-7566-4166-88D7-33058010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3B77-A698-449C-B0F2-AB10D11C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0E06-15E0-4E4C-AB20-E155AB8A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8E02-345A-464A-BD6A-53F6084E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97F-19C4-4262-8529-98D2814F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708-E506-4777-8158-B1D5DC9C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E8AB-523A-48A9-A022-B151B169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1CE-99C1-40A4-91BD-C9719DF1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D69-A7DD-4D46-A3E7-2767C65F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E05-02F2-47E5-B205-41153D6B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19E6-95CC-4832-B591-BE84D057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7E46-D5CC-441E-AA06-0BD8AB98EB2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1FF9-B59A-43F2-AFA9-2F620BB6305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Srovnání oficiálních Internetových stránek světových metropol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7816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Gabriela Hanzl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artin Přikr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lastní vyhledava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běžn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íčová slova, výraz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ooleovské operá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šířené (Turín, Amsterdam, Paříž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roximitní operá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ravo/levostranné rozšířen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utomatické skloňování/časován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hesaur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F77-DAE5-482F-860A-1B605367DD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Možnost konta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email na osobní odděl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ontakty na úředníky, volené zástup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ipravený formulá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často jen na správce strán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ýjimečně jen klasická pošta (Osl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1A3-B900-4F58-B21F-8D1FDF922B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Grafický vzhl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elké rozdí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ejzajímavějš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Ly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rland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ejméně poveden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arša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dělení do sek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07BE-2586-4AE3-90AA-60BC7FBA83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ritér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ruhy poskytovaných informac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dkazy na jiné služb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n-line služb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lán měs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lastní vyhledavač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žnost kontakt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grafický vzh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8C7-3472-45CB-9162-BE7EC6F92B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Technologie a správa stráne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echnolog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elká variabilita (DHTML, Java Script, CSS, ASP, CGI, PHP, Perl, Flash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práva strán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bsa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hos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538-A08F-4E18-B00A-5FA14B94CB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Závěrečné zhodnocen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14400" y="2057400"/>
          <a:ext cx="7419960" cy="39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741996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18E-43DB-4220-9860-CFC7F5D1FF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Děkujeme za pozornos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zký 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ro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ýběr mě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rčení oficiální strán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novení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hodnoc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ávěrečné srovná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E3D9-19E4-40A0-8C65-51006E98D4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ybraná měs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msterd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Ly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rland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sl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aří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ockhol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urí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arša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BBB0-3501-471A-BBB2-82A9A9A718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ritér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ruhy poskytovaný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dkazy na jiné strán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n-line služ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lán měs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lastní vyhledava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ožnost kontak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grafický vzhl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B92-6130-42E6-8D69-E8EA5D9648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Jazykové verz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árodní jazyk + angličti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ýjim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Lyon (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urín (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ockholm (5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aršava (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ůzný obsah (zejména pro obyvatel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D3E-CDC9-4BF7-9725-A610DAC13B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Druhy poskytovaných informac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byvatelé města, návštěvníci a podnik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díly v informacích pro podnikatele a studen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ždy informace pro obyvatele (Orland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7D7-7BDA-4388-9AA1-3504656514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Odkazy na jiné strán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eřejné instituce (ambasády, konzuláty, kulturní instituc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anceláře cestovního ruch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oprava (Paříž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životní prostřed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čas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hotely a restaur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842D-D0A7-4CE6-B4AC-03F2409368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On-line služb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elké rozdí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ětšinou nízká úrove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ěstský časop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úřední formuláře ke stažen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hledn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yhledávání v matrikách (Amsterda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ísto na parkování (Amsterda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74F7-473D-4507-9B7E-B14CEE6757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lán měs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mezená funkč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lastní, odkaz, chy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aří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yhledání stanic met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instituc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amátek, parky a zahra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škol, sportovní areá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42E7-5221-4B86-993E-5211E2BE61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07:47:05Z</dcterms:created>
  <dc:creator>Učebny</dc:creator>
  <dc:description/>
  <dc:language>en-US</dc:language>
  <cp:lastModifiedBy>Martin Prikryl</cp:lastModifiedBy>
  <dcterms:modified xsi:type="dcterms:W3CDTF">2001-01-19T07:12:12Z</dcterms:modified>
  <cp:revision>16</cp:revision>
  <dc:subject/>
  <dc:title>Studie o možnostech využití Internetu pro prezentaci hl.m. Prahy</dc:title>
</cp:coreProperties>
</file>