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217-53C6-4BFC-939D-D2C2625D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8EE-1691-4BC3-A222-7199056D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5BE-2DFB-411A-A31B-7B6AABDF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7BF-05B6-4C83-BA2E-7A5C6B4A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6793-A82B-463D-A8B8-36230CE1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1F52-8441-4E0E-A883-F46D841D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4E54-A2D0-4BC5-99B1-ACB7ADEA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DE02-B98B-43C2-8F21-1873F184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3EC1-830D-4128-893B-8F416AFC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05C6-0A4D-4D51-B7F4-4C397E85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2132-0006-4AA9-9CE6-6EAB49DE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174F-392D-4CE9-9E5A-DB317C15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CE0F-8AEF-448C-919B-803F21B7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05C8-C09A-41DE-9211-ACD1D34F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730F-3929-41C5-91D9-D788FC25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5533-AEA2-4093-A142-06D67D9E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EC96-6705-4F54-BE6E-99C4E41B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CEED-0943-4018-8351-7181E8F8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DBA-27C1-4FFC-99B7-27866699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4AF-86FD-4F7A-8DC6-780AD837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6BF9-5D07-4FA4-85D4-01F8AE79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8E3-C6DE-4AA1-A4B9-69A3DDC7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D7C-D342-4EAC-9F9F-2CE156A8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240-73A2-4735-9539-97F18E8D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Studie o možnostech využití Internetu pro prezentaci </a:t>
            </a:r>
            <a:br>
              <a:rPr sz="4400"/>
            </a:b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hl.m. Prah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7816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Gabriela Hanzlová, Martin Přikr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etr Kvasnička, Matěj Pr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íl stud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ybraná měs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ůvody výběr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Evrop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erlin, Vídeň, Helsinky, Kodaň, Londýn, Paříž, Lyon, Lisabon, Řím, Stockholm, Osl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pojené stá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oskytované služb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Informace pro obyvatele města, turisty, podnikatele, studenty,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lán měs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astní vyhledáva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dkazy na nejrůznější institu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Zjištěné nedostat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Čeho se vyvarov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ejednotnost strán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funkčnost služe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07:47:05Z</dcterms:created>
  <dc:creator>Učebny</dc:creator>
  <dc:description/>
  <dc:language>en-US</dc:language>
  <cp:lastModifiedBy>Martin Prikryl</cp:lastModifiedBy>
  <dcterms:modified xsi:type="dcterms:W3CDTF">2000-11-03T11:43:59Z</dcterms:modified>
  <cp:revision>6</cp:revision>
  <dc:subject/>
  <dc:title>Studie o možnostech využití Internetu pro prezentaci hl.m. Prahy</dc:title>
</cp:coreProperties>
</file>