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9521-FF90-4CED-A6F8-68C1F9CD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248E-BD1A-4794-8F11-99BB0401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B8EE-161F-4A1A-8369-1D81B482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C8A8-7A99-4DB3-B9E9-DA202FA0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9D71-3A38-4C2D-BAA5-49FE1E3A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4F30-84BB-4529-9305-C30C55D7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734C-CBF3-454C-B112-D7FD2816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A1B2-EDD0-4C7D-ACEB-5DE226EA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A15C-BDB9-4DC6-8BA7-BF744B44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C8C5-03F7-47B3-9F1F-706A33FD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9F5E-A839-41D8-85C1-C9705F32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7380-0E34-42C4-8DD7-FE88F334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495E-64F1-48A6-8589-ECEA9766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1C72-1AB5-43F2-9062-9E11494B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C2FD-5F82-48E7-B690-992F20F4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2E6F-E761-4516-8B05-F3BAF069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B68D-5D63-49FE-902B-B6EF7DB3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D642-4CE3-450C-AAB5-F1AEF723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AC1C-7167-455A-9A52-7E1E068C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2933-2A4D-4E75-99DE-037C93EA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A90A-2FF6-4B7A-BD4E-37B1B195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9FAF-C6DF-4879-80BB-4C164EFB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226D-23AF-4BAD-A0A1-3AD9FDCA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E6A7-483A-4F57-B34C-E2827344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8640"/>
            <a:ext cx="8152920" cy="1599840"/>
            <a:chOff x="457200" y="99864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840" y="998640"/>
              <a:ext cx="572328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3760" y="1163520"/>
              <a:ext cx="5723280" cy="126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2360" y="1384200"/>
              <a:ext cx="572040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9B72-AF62-4D17-BAD7-037C86DDD404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80880" y="2362320"/>
            <a:ext cx="8152920" cy="1447200"/>
            <a:chOff x="380880" y="2362320"/>
            <a:chExt cx="8152920" cy="1447200"/>
          </a:xfrm>
        </p:grpSpPr>
        <p:sp>
          <p:nvSpPr>
            <p:cNvPr id="47" name=""/>
            <p:cNvSpPr/>
            <p:nvPr/>
          </p:nvSpPr>
          <p:spPr>
            <a:xfrm>
              <a:off x="2810520" y="2362320"/>
              <a:ext cx="5723280" cy="144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37440" y="2511360"/>
              <a:ext cx="5723280" cy="114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96040" y="2710800"/>
              <a:ext cx="5720400" cy="74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0880" y="3004200"/>
              <a:ext cx="7918560" cy="14904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DFC9-B80C-41C2-B5A4-4E2E84194CED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M.P.J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6324480" cy="37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ruktura poboč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66680" y="2133720"/>
          <a:ext cx="70106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70106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838080" y="586728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7-20 zaměstnanců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Zaměstnanc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ede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6 vedoucích pracovník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 dalších 11 oso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1 poboč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7-20 zaměstnanc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elk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216 oso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oučasná situa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zitiv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obré jméno společ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obrá technická základ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ejsou nutné další okamžité invest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lidský potenciál (kvalifikovaní pracovníc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oučasná situa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egativ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ysoká zadluženo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btížný přístup k finančním zdrojů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klesající obr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špatná komunikac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rganizac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Obrat a zis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52320" y="2081160"/>
          <a:ext cx="776952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2081160"/>
                    <a:ext cx="776952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Zadluženo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55560" y="2081160"/>
          <a:ext cx="776124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2081160"/>
                    <a:ext cx="776124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Informační systé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žadavek na informační systé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yhlášení veřejné obchodní soutě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ýběr nejvhodnějšího kandidá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úzká spolupráce na vytvoření 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žadavky na 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Komunikace vedení-pobočk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školící centr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lepšovací návrh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Komunikace s partner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 automobilkam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 partnerskými autoservis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žadavky na 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Vedení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lánování, účetnictví, personalis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perační centr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Pobočk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účetnictví, sklad, mz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bjednávky, faktury..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žadavky na 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Operační centrum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vidence vlastních vozid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avigování vozidel (odtahových i servisních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polupráce s ostatními autoservis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polupráce s automobilkam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skytované služb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Kvalitní autorizovaný servis osobních vozid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Odtahová služb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Měření emis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5" name="FIAT" descr=""/>
          <p:cNvPicPr/>
          <p:nvPr/>
        </p:nvPicPr>
        <p:blipFill>
          <a:blip r:embed="rId1"/>
          <a:stretch/>
        </p:blipFill>
        <p:spPr>
          <a:xfrm>
            <a:off x="5181480" y="5638680"/>
            <a:ext cx="1676520" cy="576360"/>
          </a:xfrm>
          <a:prstGeom prst="rect">
            <a:avLst/>
          </a:prstGeom>
          <a:ln w="0">
            <a:noFill/>
          </a:ln>
        </p:spPr>
      </p:pic>
      <p:pic>
        <p:nvPicPr>
          <p:cNvPr id="96" name="OPELx" descr=""/>
          <p:cNvPicPr/>
          <p:nvPr/>
        </p:nvPicPr>
        <p:blipFill>
          <a:blip r:embed="rId2"/>
          <a:stretch/>
        </p:blipFill>
        <p:spPr>
          <a:xfrm>
            <a:off x="2819520" y="3886200"/>
            <a:ext cx="1550880" cy="1155600"/>
          </a:xfrm>
          <a:prstGeom prst="rect">
            <a:avLst/>
          </a:prstGeom>
          <a:ln w="0">
            <a:noFill/>
          </a:ln>
        </p:spPr>
      </p:pic>
      <p:pic>
        <p:nvPicPr>
          <p:cNvPr id="97" name="SKODA" descr=""/>
          <p:cNvPicPr/>
          <p:nvPr/>
        </p:nvPicPr>
        <p:blipFill>
          <a:blip r:embed="rId3"/>
          <a:stretch/>
        </p:blipFill>
        <p:spPr>
          <a:xfrm>
            <a:off x="990720" y="3886200"/>
            <a:ext cx="1218960" cy="1165320"/>
          </a:xfrm>
          <a:prstGeom prst="rect">
            <a:avLst/>
          </a:prstGeom>
          <a:ln w="0">
            <a:noFill/>
          </a:ln>
        </p:spPr>
      </p:pic>
      <p:pic>
        <p:nvPicPr>
          <p:cNvPr id="98" name="VW" descr=""/>
          <p:cNvPicPr/>
          <p:nvPr/>
        </p:nvPicPr>
        <p:blipFill>
          <a:blip r:embed="rId4"/>
          <a:stretch/>
        </p:blipFill>
        <p:spPr>
          <a:xfrm>
            <a:off x="4876920" y="3886200"/>
            <a:ext cx="1217520" cy="1177920"/>
          </a:xfrm>
          <a:prstGeom prst="rect">
            <a:avLst/>
          </a:prstGeom>
          <a:ln w="0">
            <a:noFill/>
          </a:ln>
        </p:spPr>
      </p:pic>
      <p:pic>
        <p:nvPicPr>
          <p:cNvPr id="99" name="LOGOJAGU" descr=""/>
          <p:cNvPicPr/>
          <p:nvPr/>
        </p:nvPicPr>
        <p:blipFill>
          <a:blip r:embed="rId5"/>
          <a:stretch/>
        </p:blipFill>
        <p:spPr>
          <a:xfrm>
            <a:off x="3429000" y="5562720"/>
            <a:ext cx="1600200" cy="841320"/>
          </a:xfrm>
          <a:prstGeom prst="rect">
            <a:avLst/>
          </a:prstGeom>
          <a:ln w="0">
            <a:noFill/>
          </a:ln>
        </p:spPr>
      </p:pic>
      <p:pic>
        <p:nvPicPr>
          <p:cNvPr id="100" name="LOGONISAN" descr=""/>
          <p:cNvPicPr/>
          <p:nvPr/>
        </p:nvPicPr>
        <p:blipFill>
          <a:blip r:embed="rId6"/>
          <a:stretch/>
        </p:blipFill>
        <p:spPr>
          <a:xfrm>
            <a:off x="533520" y="5486400"/>
            <a:ext cx="1218960" cy="905040"/>
          </a:xfrm>
          <a:prstGeom prst="rect">
            <a:avLst/>
          </a:prstGeom>
          <a:ln w="0">
            <a:noFill/>
          </a:ln>
        </p:spPr>
      </p:pic>
      <p:pic>
        <p:nvPicPr>
          <p:cNvPr id="101" name="bmw" descr=""/>
          <p:cNvPicPr/>
          <p:nvPr/>
        </p:nvPicPr>
        <p:blipFill>
          <a:blip r:embed="rId7"/>
          <a:stretch/>
        </p:blipFill>
        <p:spPr>
          <a:xfrm>
            <a:off x="6934320" y="3886200"/>
            <a:ext cx="1164960" cy="1170000"/>
          </a:xfrm>
          <a:prstGeom prst="rect">
            <a:avLst/>
          </a:prstGeom>
          <a:ln w="0">
            <a:noFill/>
          </a:ln>
        </p:spPr>
      </p:pic>
      <p:pic>
        <p:nvPicPr>
          <p:cNvPr id="102" name="FORD" descr=""/>
          <p:cNvPicPr/>
          <p:nvPr/>
        </p:nvPicPr>
        <p:blipFill>
          <a:blip r:embed="rId8"/>
          <a:stretch/>
        </p:blipFill>
        <p:spPr>
          <a:xfrm>
            <a:off x="7010280" y="5486400"/>
            <a:ext cx="1828800" cy="736560"/>
          </a:xfrm>
          <a:prstGeom prst="rect">
            <a:avLst/>
          </a:prstGeom>
          <a:ln w="0">
            <a:noFill/>
          </a:ln>
        </p:spPr>
      </p:pic>
      <p:pic>
        <p:nvPicPr>
          <p:cNvPr id="103" name="AUDI" descr=""/>
          <p:cNvPicPr/>
          <p:nvPr/>
        </p:nvPicPr>
        <p:blipFill>
          <a:blip r:embed="rId9"/>
          <a:stretch/>
        </p:blipFill>
        <p:spPr>
          <a:xfrm>
            <a:off x="1905120" y="5486400"/>
            <a:ext cx="1371600" cy="88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ontak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Elektronická pošt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artin Přikryl: </a:t>
            </a:r>
            <a:r>
              <a:rPr b="0" lang="cs-CZ" sz="2800" spc="-1" strike="noStrike">
                <a:solidFill>
                  <a:srgbClr val="ffffcc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cc"/>
                </a:solidFill>
                <a:latin typeface="Courier New"/>
              </a:rPr>
              <a:t>prim14@vse.cz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Ko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ěrský Pavel: </a:t>
            </a:r>
            <a:r>
              <a:rPr b="0" lang="cs-CZ" sz="2800" spc="-1" strike="noStrike">
                <a:solidFill>
                  <a:srgbClr val="ffffcc"/>
                </a:solidFill>
                <a:latin typeface="Courier New"/>
              </a:rPr>
              <a:t>xkobp03</a:t>
            </a:r>
            <a:r>
              <a:rPr b="0" lang="en-US" sz="2800" spc="-1" strike="noStrike">
                <a:solidFill>
                  <a:srgbClr val="ffffcc"/>
                </a:solidFill>
                <a:latin typeface="Courier New"/>
              </a:rPr>
              <a:t>@vse.cz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Telefon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/fax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2/471 600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ontak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Adres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tradovická 72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raha 4 - Kamý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42 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one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cc"/>
                </a:solidFill>
                <a:latin typeface="Times New Roman"/>
              </a:rPr>
              <a:t>Děkujeme za pozornost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1990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založení společnosti s r. o. v Klatov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199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6 nových poboček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199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ocenění za nejlepší autoservis v České republi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7" name="OCENENI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4267440" cy="3759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33"/>
                </a:solidFill>
                <a:latin typeface="Times New Roman"/>
              </a:rPr>
              <a:t>1996-7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árůst konkurence, pokles zákazník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inanční problém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33"/>
                </a:solidFill>
                <a:latin typeface="Times New Roman"/>
              </a:rPr>
              <a:t>199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ový majitel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řestěhování vedení do Prah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žadavek na nový 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slání společnos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komplexní služby pro majitele osobních motorových vozidel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ískání významu společnosti pro naše zákazníky - splněním všech př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Cíle společnos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bnovení dominantního postavení na trh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ískat okruh stálých zákazník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nížení náklad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hodnocení nových invest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ruktura společnos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371600" y="2438280"/>
          <a:ext cx="650088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65008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838080" y="586728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1 poboč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ruktura veden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01640" y="2514600"/>
          <a:ext cx="789300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2514600"/>
                    <a:ext cx="789300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586728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elkem 17 oso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6800" y="510372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cc"/>
                </a:solidFill>
                <a:latin typeface="Arial"/>
              </a:rPr>
              <a:t>ing. Drozd Jaromí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4T06:50:40Z</dcterms:created>
  <dc:creator>Martin Přikryl</dc:creator>
  <dc:description/>
  <dc:language>en-US</dc:language>
  <cp:lastModifiedBy>Učebny</cp:lastModifiedBy>
  <dcterms:modified xsi:type="dcterms:W3CDTF">1998-10-08T09:01:54Z</dcterms:modified>
  <cp:revision>13</cp:revision>
  <dc:subject/>
  <dc:title>M.P.J</dc:title>
</cp:coreProperties>
</file>