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6.wmf" ContentType="image/x-wmf"/>
  <Override PartName="/ppt/media/image8.png" ContentType="image/png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19E9-3168-44C2-9506-67F430EF6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162F-E616-45D6-8475-EC07DEBF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B432-9AC6-4E3A-B7EA-8E31EF8F8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46BC-8CEE-4D36-B14D-2AFCDF9B9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659D5-84A3-415A-A936-94E55E1CE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145B-3BA6-4E03-8F9E-8235704C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990C3-2D46-4168-9F62-3DD37D23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DEE6-5BBB-4D73-9AB6-4427EE0C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4994-CFE4-43BB-A8F5-F9307CD8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B3C2-BB12-4E7A-BB16-05FCF6AF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1FA7-CD5A-45F5-A824-A73C8891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3DED-2D98-46F9-8989-617E7839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1D5C-9444-4679-B0E7-20CA56B4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3C80-8509-4EBD-B8EF-5ED19263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1137-E8A9-4A11-8738-E994F2A6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8676-E72F-40EB-84E5-4C79D6A95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4488-0729-416E-95B7-7072E2673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CFF1-FC3D-4DD6-AE92-B185D7F5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5FDD-7DD7-4C35-BFE2-87FE06D4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BE7C-FD97-4BF7-AB5A-04AA3BB3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B408-D702-4A19-952D-19B0145C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4A68-86FE-4D85-9CA0-2A2AF7CF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5CF9-2B62-4D4D-BB93-9245660F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333B-4E28-4817-9146-D946C733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8640"/>
            <a:ext cx="8152920" cy="1599840"/>
            <a:chOff x="457200" y="99864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840" y="998640"/>
              <a:ext cx="572328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3760" y="1163520"/>
              <a:ext cx="5723280" cy="126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2360" y="1384200"/>
              <a:ext cx="572040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9158-CEBF-44C1-9C4E-026CC926A4B9}" type="slidenum"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380880" y="2362320"/>
            <a:ext cx="8152920" cy="1447200"/>
            <a:chOff x="380880" y="2362320"/>
            <a:chExt cx="8152920" cy="1447200"/>
          </a:xfrm>
        </p:grpSpPr>
        <p:sp>
          <p:nvSpPr>
            <p:cNvPr id="47" name=""/>
            <p:cNvSpPr/>
            <p:nvPr/>
          </p:nvSpPr>
          <p:spPr>
            <a:xfrm>
              <a:off x="2810520" y="2362320"/>
              <a:ext cx="5723280" cy="144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37440" y="2511360"/>
              <a:ext cx="5723280" cy="114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696040" y="2710800"/>
              <a:ext cx="5720400" cy="74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80880" y="3004200"/>
              <a:ext cx="7918560" cy="14904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2E97-0FF8-4B3C-B139-47F534730D08}" type="slidenum"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M.P.J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6324480" cy="37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truktura poboč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066680" y="2133720"/>
          <a:ext cx="701064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133720"/>
                    <a:ext cx="701064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838080" y="5867280"/>
            <a:ext cx="7467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17-20 zaměstnanců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Zaměstnanc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Vede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6 vedoucích pracovník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a dalších 11 oso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11 poboče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17-20 zaměstnanc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elk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216 oso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oučasná situa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ozitiv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dobré jméno společnost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dobrá technická základn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ejsou nutné další okamžité investi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lidský potenciál (kvalifikovaní pracovníci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oučasná situa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egativ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vysoká zadluženo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obtížný přístup k finančním zdrojů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klesající obr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špatná komunikac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organizac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Obrat a zis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52320" y="2081160"/>
          <a:ext cx="7769520" cy="41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320" y="2081160"/>
                    <a:ext cx="776952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Zadluženo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55560" y="2081160"/>
          <a:ext cx="7761240" cy="41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2081160"/>
                    <a:ext cx="776124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Informační systé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ožadavek na informační systé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vyhlášení veřejné obchodní soutěž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výběr nejvhodnějšího kandidá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úzká spolupráce na vytvoření 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ožadavky na 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Times New Roman"/>
              </a:rPr>
              <a:t>Komunikace vedení-pobočk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školící centru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zlepšovací návrh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Times New Roman"/>
              </a:rPr>
              <a:t>Komunikace s partner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 automobilkam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 partnerskými autoservis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ožadavky na 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Times New Roman"/>
              </a:rPr>
              <a:t>Vedení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lánování, účetnictví, personalistik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operační centru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Times New Roman"/>
              </a:rPr>
              <a:t>Pobočk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účetnictví, sklad, mz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objednávky, faktury..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ožadavky na 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Times New Roman"/>
              </a:rPr>
              <a:t>Operační centrum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vidence vlastních vozid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avigování vozidel (odtahových i servisních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polupráce s ostatními autoservis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polupráce s automobilkam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oskytované služb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6960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Kvalitní autorizovaný servis osobních vozid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Odtahová služb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Měření emis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5" name="FIAT" descr=""/>
          <p:cNvPicPr/>
          <p:nvPr/>
        </p:nvPicPr>
        <p:blipFill>
          <a:blip r:embed="rId1"/>
          <a:stretch/>
        </p:blipFill>
        <p:spPr>
          <a:xfrm>
            <a:off x="5181480" y="5638680"/>
            <a:ext cx="1676520" cy="576360"/>
          </a:xfrm>
          <a:prstGeom prst="rect">
            <a:avLst/>
          </a:prstGeom>
          <a:ln w="0">
            <a:noFill/>
          </a:ln>
        </p:spPr>
      </p:pic>
      <p:pic>
        <p:nvPicPr>
          <p:cNvPr id="96" name="OPELx" descr=""/>
          <p:cNvPicPr/>
          <p:nvPr/>
        </p:nvPicPr>
        <p:blipFill>
          <a:blip r:embed="rId2"/>
          <a:stretch/>
        </p:blipFill>
        <p:spPr>
          <a:xfrm>
            <a:off x="2819520" y="3886200"/>
            <a:ext cx="1550880" cy="1155600"/>
          </a:xfrm>
          <a:prstGeom prst="rect">
            <a:avLst/>
          </a:prstGeom>
          <a:ln w="0">
            <a:noFill/>
          </a:ln>
        </p:spPr>
      </p:pic>
      <p:pic>
        <p:nvPicPr>
          <p:cNvPr id="97" name="SKODA" descr=""/>
          <p:cNvPicPr/>
          <p:nvPr/>
        </p:nvPicPr>
        <p:blipFill>
          <a:blip r:embed="rId3"/>
          <a:stretch/>
        </p:blipFill>
        <p:spPr>
          <a:xfrm>
            <a:off x="990720" y="3886200"/>
            <a:ext cx="1218960" cy="1165320"/>
          </a:xfrm>
          <a:prstGeom prst="rect">
            <a:avLst/>
          </a:prstGeom>
          <a:ln w="0">
            <a:noFill/>
          </a:ln>
        </p:spPr>
      </p:pic>
      <p:pic>
        <p:nvPicPr>
          <p:cNvPr id="98" name="VW" descr=""/>
          <p:cNvPicPr/>
          <p:nvPr/>
        </p:nvPicPr>
        <p:blipFill>
          <a:blip r:embed="rId4"/>
          <a:stretch/>
        </p:blipFill>
        <p:spPr>
          <a:xfrm>
            <a:off x="4876920" y="3886200"/>
            <a:ext cx="1217520" cy="1177920"/>
          </a:xfrm>
          <a:prstGeom prst="rect">
            <a:avLst/>
          </a:prstGeom>
          <a:ln w="0">
            <a:noFill/>
          </a:ln>
        </p:spPr>
      </p:pic>
      <p:pic>
        <p:nvPicPr>
          <p:cNvPr id="99" name="LOGOJAGU" descr=""/>
          <p:cNvPicPr/>
          <p:nvPr/>
        </p:nvPicPr>
        <p:blipFill>
          <a:blip r:embed="rId5"/>
          <a:stretch/>
        </p:blipFill>
        <p:spPr>
          <a:xfrm>
            <a:off x="3429000" y="5562720"/>
            <a:ext cx="1600200" cy="841320"/>
          </a:xfrm>
          <a:prstGeom prst="rect">
            <a:avLst/>
          </a:prstGeom>
          <a:ln w="0">
            <a:noFill/>
          </a:ln>
        </p:spPr>
      </p:pic>
      <p:pic>
        <p:nvPicPr>
          <p:cNvPr id="100" name="LOGONISAN" descr=""/>
          <p:cNvPicPr/>
          <p:nvPr/>
        </p:nvPicPr>
        <p:blipFill>
          <a:blip r:embed="rId6"/>
          <a:stretch/>
        </p:blipFill>
        <p:spPr>
          <a:xfrm>
            <a:off x="533520" y="5486400"/>
            <a:ext cx="1218960" cy="905040"/>
          </a:xfrm>
          <a:prstGeom prst="rect">
            <a:avLst/>
          </a:prstGeom>
          <a:ln w="0">
            <a:noFill/>
          </a:ln>
        </p:spPr>
      </p:pic>
      <p:pic>
        <p:nvPicPr>
          <p:cNvPr id="101" name="bmw" descr=""/>
          <p:cNvPicPr/>
          <p:nvPr/>
        </p:nvPicPr>
        <p:blipFill>
          <a:blip r:embed="rId7"/>
          <a:stretch/>
        </p:blipFill>
        <p:spPr>
          <a:xfrm>
            <a:off x="6934320" y="3886200"/>
            <a:ext cx="1164960" cy="1170000"/>
          </a:xfrm>
          <a:prstGeom prst="rect">
            <a:avLst/>
          </a:prstGeom>
          <a:ln w="0">
            <a:noFill/>
          </a:ln>
        </p:spPr>
      </p:pic>
      <p:pic>
        <p:nvPicPr>
          <p:cNvPr id="102" name="FORD" descr=""/>
          <p:cNvPicPr/>
          <p:nvPr/>
        </p:nvPicPr>
        <p:blipFill>
          <a:blip r:embed="rId8"/>
          <a:stretch/>
        </p:blipFill>
        <p:spPr>
          <a:xfrm>
            <a:off x="7010280" y="5486400"/>
            <a:ext cx="1828800" cy="736560"/>
          </a:xfrm>
          <a:prstGeom prst="rect">
            <a:avLst/>
          </a:prstGeom>
          <a:ln w="0">
            <a:noFill/>
          </a:ln>
        </p:spPr>
      </p:pic>
      <p:pic>
        <p:nvPicPr>
          <p:cNvPr id="103" name="AUDI" descr=""/>
          <p:cNvPicPr/>
          <p:nvPr/>
        </p:nvPicPr>
        <p:blipFill>
          <a:blip r:embed="rId9"/>
          <a:stretch/>
        </p:blipFill>
        <p:spPr>
          <a:xfrm>
            <a:off x="1905120" y="5486400"/>
            <a:ext cx="1371600" cy="88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Kontak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Times New Roman"/>
              </a:rPr>
              <a:t>Elektronická pošt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Martin Přikryl: </a:t>
            </a:r>
            <a:r>
              <a:rPr b="0" lang="cs-CZ" sz="2800" spc="-1" strike="noStrike">
                <a:solidFill>
                  <a:srgbClr val="ffffcc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ffffcc"/>
                </a:solidFill>
                <a:latin typeface="Courier New"/>
              </a:rPr>
              <a:t>prim14@vse.cz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Ko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ěrský Pavel: </a:t>
            </a:r>
            <a:r>
              <a:rPr b="0" lang="cs-CZ" sz="2800" spc="-1" strike="noStrike">
                <a:solidFill>
                  <a:srgbClr val="ffffcc"/>
                </a:solidFill>
                <a:latin typeface="Courier New"/>
              </a:rPr>
              <a:t>xkobp03</a:t>
            </a:r>
            <a:r>
              <a:rPr b="0" lang="en-US" sz="2800" spc="-1" strike="noStrike">
                <a:solidFill>
                  <a:srgbClr val="ffffcc"/>
                </a:solidFill>
                <a:latin typeface="Courier New"/>
              </a:rPr>
              <a:t>@vse.cz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Times New Roman"/>
              </a:rPr>
              <a:t>Telefon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/fax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02/471 600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Kontak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Times New Roman"/>
              </a:rPr>
              <a:t>Adres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Otradovická 728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raha 4 - Kamý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142 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Konec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fffcc"/>
                </a:solidFill>
                <a:latin typeface="Times New Roman"/>
              </a:rPr>
              <a:t>Děkujeme za pozornost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9933"/>
                </a:solidFill>
                <a:latin typeface="Times New Roman"/>
              </a:rPr>
              <a:t>1990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založení společnosti s r. o. v Klatove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9933"/>
                </a:solidFill>
                <a:latin typeface="Times New Roman"/>
              </a:rPr>
              <a:t>199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6 nových poboček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9933"/>
                </a:solidFill>
                <a:latin typeface="Times New Roman"/>
              </a:rPr>
              <a:t>199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ocenění za nejlepší autoservis v České republi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7" name="OCENENI" descr=""/>
          <p:cNvPicPr/>
          <p:nvPr/>
        </p:nvPicPr>
        <p:blipFill>
          <a:blip r:embed="rId1"/>
          <a:stretch/>
        </p:blipFill>
        <p:spPr>
          <a:xfrm>
            <a:off x="2666880" y="2514600"/>
            <a:ext cx="4267440" cy="3759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33"/>
                </a:solidFill>
                <a:latin typeface="Times New Roman"/>
              </a:rPr>
              <a:t>1996-7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árůst konkurence, pokles zákazník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finanční problém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33"/>
                </a:solidFill>
                <a:latin typeface="Times New Roman"/>
              </a:rPr>
              <a:t>1998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ový majitelé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řestěhování vedení do Prah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ožadavek na nový 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oslání společnost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komplexní služby pro majitele osobních motorových vozidel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získání významu společnosti pro naše zákazníky - splněním všech přá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Cíle společnost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obnovení dominantního postavení na trh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získat okruh stálých zákazník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nížení náklad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zhodnocení nových investi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truktura společnost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371600" y="2438280"/>
          <a:ext cx="650088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38280"/>
                    <a:ext cx="650088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838080" y="5867280"/>
            <a:ext cx="7467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11 poboče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truktura vedení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01640" y="2514600"/>
          <a:ext cx="7893000" cy="29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2514600"/>
                    <a:ext cx="7893000" cy="29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5867280"/>
            <a:ext cx="7467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elkem 17 oso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46800" y="510372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cc"/>
                </a:solidFill>
                <a:latin typeface="Arial"/>
              </a:rPr>
              <a:t>ing. Drozd Jaromí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4T06:50:40Z</dcterms:created>
  <dc:creator>Martin Přikryl</dc:creator>
  <dc:description/>
  <dc:language>en-US</dc:language>
  <cp:lastModifiedBy>Učebny</cp:lastModifiedBy>
  <dcterms:modified xsi:type="dcterms:W3CDTF">1998-10-08T09:01:54Z</dcterms:modified>
  <cp:revision>13</cp:revision>
  <dc:subject/>
  <dc:title>M.P.J</dc:title>
</cp:coreProperties>
</file>