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2311560" y="533520"/>
            <a:ext cx="25560" cy="377640"/>
          </a:xfrm>
          <a:custGeom>
            <a:avLst/>
            <a:gdLst/>
            <a:ahLst/>
            <a:rect l="l" t="t" r="r" b="b"/>
            <a:pathLst>
              <a:path w="16" h="238">
                <a:moveTo>
                  <a:pt x="16" y="0"/>
                </a:moveTo>
                <a:cubicBezTo>
                  <a:pt x="0" y="144"/>
                  <a:pt x="5" y="64"/>
                  <a:pt x="5" y="23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" name=""/>
          <p:cNvCxnSpPr/>
          <p:nvPr/>
        </p:nvCxnSpPr>
        <p:spPr>
          <a:xfrm flipH="1">
            <a:off x="5028840" y="1116000"/>
            <a:ext cx="7200" cy="789840"/>
          </a:xfrm>
          <a:prstGeom prst="straightConnector1">
            <a:avLst/>
          </a:prstGeom>
          <a:ln w="0">
            <a:noFill/>
          </a:ln>
        </p:spPr>
      </p:cxnSp>
      <p:sp>
        <p:nvSpPr>
          <p:cNvPr id="4" name=""/>
          <p:cNvSpPr txBox="1"/>
          <p:nvPr/>
        </p:nvSpPr>
        <p:spPr>
          <a:xfrm>
            <a:off x="1295280" y="609480"/>
            <a:ext cx="66294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PJ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133720" y="4191120"/>
            <a:ext cx="4914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990099"/>
                    </a:gs>
                  </a:gsLst>
                  <a:lin ang="5400000"/>
                </a:gradFill>
                <a:latin typeface="Times New Roman"/>
              </a:rPr>
              <a:t>Informační systém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9900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219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 CE"/>
              </a:rPr>
              <a:t>Nabídka informačního systému pro firmu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31920" y="2971800"/>
          <a:ext cx="48783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1920" y="2971800"/>
                    <a:ext cx="4878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Naše firma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ložena  v roce 19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kytuje komplexní služby v oblasti informačních syst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á bohaté zkušenosti z četných zakázek pro soukromé i státní instit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ruka spolehlivosti syst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Náš informační systém Vám přines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pší interní i externí komunika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rychlení celého obchodního proce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výšení konkurenceschop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oblasti skla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zaci administrativní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Při vytváření informačního systému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deme maximálně spolupracovat s Vašimi zaměstnan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jdeme maximálně vstříc všem Vašim požadavk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formační systém Vám umožní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dení skladové evidence s automatickým objednáván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dení databáze zákazní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adnou a rychlou komunikaci V rámci celého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formační systém Vám umožní 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adnou a rychlou komunikaci s obchodními partn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cké provázání účetnictví se všemi ostatními oblast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ování informací pro analý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Dodací podmínky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ání do 7 týdn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běžná cena 360 000,-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zplatné zaškolení Vašich zaměstnanc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Doufáme, že naši nabídku akceptujete 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17:02:36Z</dcterms:created>
  <dc:creator>Pocitacove ucebny</dc:creator>
  <dc:description/>
  <dc:language>en-US</dc:language>
  <cp:lastModifiedBy>Martin</cp:lastModifiedBy>
  <cp:lastPrinted>1998-10-12T20:35:54Z</cp:lastPrinted>
  <dcterms:modified xsi:type="dcterms:W3CDTF">1997-11-04T19:45:53Z</dcterms:modified>
  <cp:revision>15</cp:revision>
  <dc:subject/>
  <dc:title>MPJ informační systémy</dc:title>
</cp:coreProperties>
</file>