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.wmf"/><Relationship Id="rId3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4400" spc="-1" strike="noStrike">
                <a:solidFill>
                  <a:srgbClr val="fafd00"/>
                </a:solidFill>
                <a:latin typeface="Times New Roman"/>
              </a:rPr>
              <a:t>MPJ IT s.r.o.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dresa: Na Bojišti 3, Pra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k založení: 19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roce 1997 obrat 100 mil. K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ca 1500 zaměstnanců a externích spolupracovní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rientace na vývoj IS pro široký okruh fi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4400" spc="-1" strike="noStrike">
                <a:solidFill>
                  <a:srgbClr val="fafd00"/>
                </a:solidFill>
                <a:latin typeface="Times New Roman"/>
              </a:rPr>
              <a:t>MPJ IT s.r.o. projekt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50 projektů ve středních a větších firmá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994 začátek spolupráce s IB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1995 dokončen  IS pro Vítkovice a.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tátní zakázk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4400" spc="-1" strike="noStrike">
                <a:solidFill>
                  <a:srgbClr val="fafd00"/>
                </a:solidFill>
                <a:latin typeface="Times New Roman"/>
              </a:rPr>
              <a:t>Řešení  IS pro TO</a:t>
            </a:r>
            <a:r>
              <a:rPr b="0" lang="cs-CZ" sz="5400" spc="-1" strike="noStrike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cs-CZ" sz="4400" spc="-1" strike="noStrike">
                <a:solidFill>
                  <a:srgbClr val="fafd00"/>
                </a:solidFill>
                <a:latin typeface="Times New Roman"/>
              </a:rPr>
              <a:t>RI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vý IS v časovém horizontu 1 ro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polupráce se zahraničními vydavate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ace s tuzemskými dodavatel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nitorování požadavků odběrate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á komunikace uvnitř podni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4400" spc="-1" strike="noStrike">
                <a:solidFill>
                  <a:srgbClr val="fafd00"/>
                </a:solidFill>
                <a:latin typeface="Times New Roman"/>
              </a:rPr>
              <a:t>Organizační struktura TO</a:t>
            </a:r>
            <a:r>
              <a:rPr b="0" lang="cs-CZ" sz="5400" spc="-1" strike="noStrike">
                <a:solidFill>
                  <a:srgbClr val="fafd00"/>
                </a:solidFill>
                <a:latin typeface="Times New Roman"/>
              </a:rPr>
              <a:t>P</a:t>
            </a:r>
            <a:r>
              <a:rPr b="0" lang="cs-CZ" sz="4400" spc="-1" strike="noStrike">
                <a:solidFill>
                  <a:srgbClr val="fafd00"/>
                </a:solidFill>
                <a:latin typeface="Times New Roman"/>
              </a:rPr>
              <a:t>RIN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371680" y="1830240"/>
          <a:ext cx="424656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1680" y="1830240"/>
                    <a:ext cx="42465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843120" y="2139840"/>
          <a:ext cx="86652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2139840"/>
                    <a:ext cx="86652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816120" y="498600"/>
          <a:ext cx="89856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6120" y="498600"/>
                    <a:ext cx="898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797200" y="498600"/>
          <a:ext cx="936720" cy="98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97200" y="498600"/>
                    <a:ext cx="9367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35480" y="498600"/>
          <a:ext cx="936720" cy="9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35480" y="498600"/>
                    <a:ext cx="9367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7369200" y="498600"/>
          <a:ext cx="936720" cy="98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69200" y="498600"/>
                    <a:ext cx="93672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454800" y="4689360"/>
          <a:ext cx="898560" cy="94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54800" y="4689360"/>
                    <a:ext cx="898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178080" y="4765680"/>
          <a:ext cx="898560" cy="949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78080" y="4765680"/>
                    <a:ext cx="898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59520" y="4689360"/>
          <a:ext cx="898560" cy="949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59520" y="4689360"/>
                    <a:ext cx="898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673440" y="2346480"/>
          <a:ext cx="1128600" cy="1006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673440" y="2346480"/>
                    <a:ext cx="1128600" cy="100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502240" y="2346480"/>
          <a:ext cx="1128600" cy="1006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502240" y="2346480"/>
                    <a:ext cx="1128600" cy="100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7254720" y="2346480"/>
          <a:ext cx="1128960" cy="1006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54720" y="2346480"/>
                    <a:ext cx="1128960" cy="100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864000" y="1427040"/>
            <a:ext cx="1062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ed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0920" y="1427040"/>
            <a:ext cx="219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sobní od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65320" y="1427040"/>
            <a:ext cx="212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Účetní od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52520" y="1427040"/>
            <a:ext cx="145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45960" y="333216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dak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07520" y="3332160"/>
            <a:ext cx="1249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iská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70600" y="3332160"/>
            <a:ext cx="145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stribu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0800" y="577044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kl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27640" y="5618160"/>
            <a:ext cx="1244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voz a údrž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16680" y="5846760"/>
            <a:ext cx="169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kladatel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37960" y="3976560"/>
          <a:ext cx="733680" cy="36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37960" y="3976560"/>
                    <a:ext cx="7336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241200" y="4368960"/>
          <a:ext cx="727200" cy="355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41200" y="4368960"/>
                    <a:ext cx="7272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33280" y="4788000"/>
          <a:ext cx="757440" cy="463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3280" y="4788000"/>
                    <a:ext cx="7574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25320" y="5313240"/>
            <a:ext cx="1571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davatel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běratel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prav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26400" y="4689360"/>
          <a:ext cx="898560" cy="949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826400" y="4689360"/>
                    <a:ext cx="8985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11760" y="998640"/>
            <a:ext cx="27295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6680" y="463680"/>
            <a:ext cx="4101480" cy="59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9520" y="235080"/>
            <a:ext cx="3492360" cy="105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8640" y="1377720"/>
            <a:ext cx="139320" cy="74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450720" y="2520720"/>
            <a:ext cx="42541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64440" y="2521080"/>
            <a:ext cx="19677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9560" y="2674800"/>
            <a:ext cx="181512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8800" y="2521080"/>
            <a:ext cx="901800" cy="227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92880" y="2826000"/>
            <a:ext cx="596520" cy="181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32400" y="2444760"/>
            <a:ext cx="1053720" cy="242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32600" y="2444760"/>
            <a:ext cx="596520" cy="242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9960" y="1091880"/>
            <a:ext cx="558360" cy="452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08120" y="569448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opr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4400" spc="-1" strike="noStrike">
                <a:solidFill>
                  <a:srgbClr val="fafd00"/>
                </a:solidFill>
                <a:latin typeface="Times New Roman"/>
              </a:rPr>
              <a:t>Přínosy a efekty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užnější reakce na příležitosti a potřeby tr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růhlednění vnitropodnikové čin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nižování nákladů na administrati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kvalitnění poskytovaných služe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spektiva růstu tržního podí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100000">
              <a:srgbClr val="01124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4400" spc="-1" strike="noStrike">
                <a:solidFill>
                  <a:srgbClr val="fafd00"/>
                </a:solidFill>
                <a:latin typeface="Times New Roman"/>
              </a:rPr>
              <a:t>Garance spolehlivost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o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ový plán real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školení pracovník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údržba, serv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zultace on-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lupráce s IB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3T14:22:16Z</dcterms:created>
  <dc:creator>Pocitacove ucebny</dc:creator>
  <dc:description/>
  <dc:language>en-US</dc:language>
  <cp:lastModifiedBy>Martin</cp:lastModifiedBy>
  <dcterms:modified xsi:type="dcterms:W3CDTF">1997-11-04T19:46:07Z</dcterms:modified>
  <cp:revision>15</cp:revision>
  <dc:subject/>
  <dc:title>MPJ IT s.r.o.</dc:title>
</cp:coreProperties>
</file>