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D51-4FD5-4D7F-9CC5-446BC7BB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02E-1573-4239-B854-05D05E5F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C13-0BE2-459C-9106-8C10E81A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819-D977-42BE-87E2-9480E4C3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B92C-D8FA-47B2-AA16-3698667D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B724-97D9-482C-A818-6A2794CA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4AB2-EA51-4FD9-9393-B76C220A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3EF7-7A98-4F67-99F2-FCF19FC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6E07-6FD9-49C2-B699-3A22F25E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6DD5-6C3F-42DE-A8B9-17C5B35E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3986-E8C5-4EF4-A973-F431F6A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A7A-3CFA-47A7-BEDF-4083D95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1DF7-2A93-4080-A604-B9914DB3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154D-D8BB-4757-91E2-0C4A113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D761-C420-4810-9CE6-48982E77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8151-3373-4A4A-9CC2-0FB5902C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F1D4-F1D8-4476-A08D-E802749D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005-4699-45F7-96A7-F5BD92D7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ABB-A11A-49C8-984F-BFB4B006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223-E0C2-456D-838D-2404D3DB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E43-7301-4D74-ABCC-8809F7DF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3EE-9E10-4864-8EC6-E09D3B03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C63-82B2-409C-8213-85862DE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30C-4E3A-4818-B5C0-8ACDEA9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122B-2157-431C-8374-02ECBA64089A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FE55-A45B-4B6E-9FBA-4ECAFD37EDDE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s vítá na dnešní prezenta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Interview o jedné oblasti činnosti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podrobnější informace o příjmu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bjednávek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26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ou formu u Vás může zákazník objednat zboží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elefonem, E-Mailem, poštou nebo osobní návštěvou v sídle naší firmy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Kolik objednávek zvládáte zpracovávat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Přibližně 30 za hodin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Vyhodnocujete nějakým způsobem objednávky, případně ja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Ne, ale chtěli bychom tuto možnost implementovat do našeho informačního systém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Archivujete objednávky a jak dlouho do minulosti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Ano, jeden měsíc zpět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ý je výstup objednávky resp. odkud kam putuje objednávka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Z obchodního oddělení do skladu, dále do oddělení distribuce. Potom všechny objednávky zpracováváme pomocí počítače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 řešíte problém nevyřízených objednáve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akové objednávky se ukládají do seznamu nevyřízených objednávek a postupně kontaktujeme zákazníky.</a:t>
            </a:r>
            <a:br>
              <a:rPr sz="1600"/>
            </a:b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ÝZA FIR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28600"/>
          <a:ext cx="1165860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116586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62120" y="609480"/>
          <a:ext cx="792468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246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04920" y="2184480"/>
          <a:ext cx="8534160" cy="42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84480"/>
                    <a:ext cx="85341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09480" y="137808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stup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    Procesy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ýstu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066680" y="2133720"/>
          <a:ext cx="7010640" cy="43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43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DO JS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RAVENÁ 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981080"/>
          <a:ext cx="7391520" cy="46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39152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ÁVRH ZMĚ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419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osamostatnění oddělení účetnictv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doplnit mzdovou politiku a personální plánován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sklad a oddělení reklamací zahrnout pod obchodní úse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zajistit on-line kontrolu stavu zásob již při přijímání objednávek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m přeje hezký a úspěšný d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71600" y="548568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radenská firma zabývající se vaším Informačním systém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879360"/>
            <a:ext cx="541044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Zlatnická 785,Praha 8,180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795 22 5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info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@ </a:t>
            </a: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radanadzlato.c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 KOHO PRACUJE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735840"/>
            <a:ext cx="167616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název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sídl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ředmět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opis předmětu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íle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805320"/>
            <a:ext cx="64008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Odra,s.r.o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Jindřišská 16, 111 50, Praha 1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nákup zboží za účelem jeho dalšího prodeje a prodej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virtuální obchodní dům na Internet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docílit nejširší nabídky na trh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vytvořit si dobré obchodní jmén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maximalizace zisk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676160"/>
            <a:ext cx="35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organizační struktura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362320"/>
            <a:ext cx="281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3623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971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954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89548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438280"/>
            <a:ext cx="350496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51424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ředitelství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429000"/>
            <a:ext cx="21337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429000"/>
            <a:ext cx="19051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obch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50496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éče o zákazník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496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technický ú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64832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64832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648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46483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6483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áku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65444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účetnictví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46483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64832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říje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objednáv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5334120"/>
            <a:ext cx="1447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distribu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5334120"/>
            <a:ext cx="12952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kl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3200400"/>
            <a:ext cx="5943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19720"/>
            <a:ext cx="3657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5105520"/>
            <a:ext cx="16002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0481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8880" y="4038480"/>
            <a:ext cx="0" cy="10670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První setkání s managementem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všeobecné informace o firmě, 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ejí činnosti a problémech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19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 je předmět činnosti Vaší firmy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dáváme multimédia po Internet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rodáváte pouze pře Internet nebo také prostřednictvím jiných distribučních kanál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Ne, pouze přes Internet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de nakupujete zboží a které oddělení tuto činnost zajišťuj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U velkoobchodů. Touto činností se zabývá 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tvoříte nabídku Vašich výrobk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 to se stará technický úsek, který vytváří WWW stránky, na kterých si zákazníci objednávají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é oddělení se zabývá tvorbou cen zboží, které prodává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opište prosím distribuci zboží k zákazníkovi.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o zabalení zboží je posíláno poštou zákazníkovi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Využíváte pouze služeb České pošty, s.p.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Ano, je to jediný způsob, jakým doručujeme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máte zajištěno vyřizování reklamací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střednictvím telefonu a E-Mail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ý způsob komunikace se zákazníkem upřednostňuje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E-Mail.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0:32:22Z</dcterms:created>
  <dc:creator>Vratislav Šimáček</dc:creator>
  <dc:description/>
  <dc:language>en-US</dc:language>
  <cp:lastModifiedBy>Martin Prikryl</cp:lastModifiedBy>
  <dcterms:modified xsi:type="dcterms:W3CDTF">1999-12-10T11:22:16Z</dcterms:modified>
  <cp:revision>9</cp:revision>
  <dc:subject/>
  <dc:title>KDO JSME?</dc:title>
</cp:coreProperties>
</file>