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011-7EA4-4035-9B0E-E5E295BD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C7C-7A3F-4A41-9834-8B4D9E0D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32C0-42DF-4541-9084-1CEB251C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7AB-B385-4CCD-A9B9-C5C647D0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6943-E2D5-43D2-BD80-1774A0E2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B444-D8C9-4C81-8AA6-2A08107B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5A16-DCD9-4876-9CE7-91C356DF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2400-E1D3-4814-9291-B9216F92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701B-19CC-4714-AF26-98349C4D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19A7-9F81-4341-A443-D97FF6B8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0BE1-8545-49A4-B785-48A33169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2D4-7729-4256-92E5-44E385B7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1242-E3FD-41C0-ACAC-CEC41639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3C17-76B7-414D-8262-CF8E408C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2C3A-470A-4E88-98DC-94176D62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22B6-DAF4-4ACD-B237-F8C5A47C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E6C6-22E0-4E08-AB26-670A52F3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9D2E-2A1A-4260-8F62-286FA9BC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7CB-4F3B-448F-B4CE-10BED439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E19-4BD2-4F6A-90B2-02AACE34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4AA-C1FE-4D83-9685-E0A5A98C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C2E1-9C25-46CE-9B39-79C2349D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F1C-3A7B-4559-A005-62135FC1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477-11C6-4B35-8500-D5D04E52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5F68-EF7A-4595-95CB-6B6772FDFA6C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2362320"/>
            <a:ext cx="8152920" cy="1447200"/>
            <a:chOff x="380880" y="2362320"/>
            <a:chExt cx="8152920" cy="1447200"/>
          </a:xfrm>
        </p:grpSpPr>
        <p:sp>
          <p:nvSpPr>
            <p:cNvPr id="47" name=""/>
            <p:cNvSpPr/>
            <p:nvPr/>
          </p:nvSpPr>
          <p:spPr>
            <a:xfrm>
              <a:off x="2810520" y="2362320"/>
              <a:ext cx="5723280" cy="144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37440" y="2511360"/>
              <a:ext cx="5723280" cy="11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6040" y="2710800"/>
              <a:ext cx="572040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3004200"/>
              <a:ext cx="7918560" cy="1490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29C3-A771-4B70-9301-4C09D0AB1E2A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6520" y="5028840"/>
            <a:ext cx="632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Vás vítá na dnešní prezentac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IEW č.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Předmět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Interview o jedné oblasti činnosti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Cíl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Získat podrobnější informace o příjmu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bjednávek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Datum a místo konání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26. listopadu 1999, sídl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 zadavatele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Interview realizovali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Aleš Dvorák a Tomáš Mudra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 u="sng">
                <a:solidFill>
                  <a:srgbClr val="ffffff"/>
                </a:solidFill>
                <a:uFillTx/>
                <a:latin typeface="Times New Roman"/>
              </a:rPr>
              <a:t>Otázky a odpovědi: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ou formu u Vás může zákazník objednat zboží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Telefonem, E-Mailem, poštou nebo osobní návštěvou v sídle naší firmy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Kolik objednávek zvládáte zpracovávat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Přibližně 30 za hodinu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Vyhodnocujete nějakým způsobem objednávky, případně jak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Ne, ale chtěli bychom tuto možnost implementovat do našeho informačního systému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Archivujete objednávky a jak dlouho do minulosti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Ano, jeden měsíc zpět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ý je výstup objednávky resp. odkud kam putuje objednávka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Z obchodního oddělení do skladu, dále do oddělení distribuce. Potom všechny objednávky zpracováváme pomocí počítače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 řešíte problém nevyřízených objednávek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Takové objednávky se ukládají do seznamu nevyřízených objednávek a postupně kontaktujeme zákazníky.</a:t>
            </a:r>
            <a:br>
              <a:rPr sz="1600"/>
            </a:b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ÝZA FIR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228600"/>
          <a:ext cx="11658600" cy="71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1165860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762120" y="609480"/>
          <a:ext cx="792468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2468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04920" y="2184480"/>
          <a:ext cx="8534160" cy="429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84480"/>
                    <a:ext cx="85341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09480" y="1378080"/>
            <a:ext cx="708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Vstup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               Procesy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Výstup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TI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ÁZE DAT/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066680" y="2133720"/>
          <a:ext cx="7010640" cy="43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010640" cy="43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DO JSM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RAVENÁ MATI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ÁZE DAT/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09480" y="1981080"/>
          <a:ext cx="7391520" cy="46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39152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ÁVRH ZMĚ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4419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osamostatnění oddělení účetnictví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doplnit mzdovou politiku a personální plánování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sklad a oddělení reklamací zahrnout pod obchodní úsek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zajistit on-line kontrolu stavu zásob již při přijímání objednávek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76520" y="5028840"/>
            <a:ext cx="632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Vám přeje hezký a úspěšný d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71600" y="548568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oradenská firma zabývající se vaším Informačním systém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879360"/>
            <a:ext cx="541044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Zlatnická 785,Praha 8,180 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795 22 5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info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@ </a:t>
            </a: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radanadzlato.c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 KOHO PRACUJEM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735840"/>
            <a:ext cx="1676160" cy="50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název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sídlo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předmět činnosti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popis předmětu činnosti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íle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805320"/>
            <a:ext cx="6400800" cy="55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Odra,s.r.o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Jindřišská 16, 111 50, Praha 1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nákup zboží za účelem jeho dalšího prodeje a prodej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virtuální obchodní dům na Internet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docílit nejširší nabídky na trh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vytvořit si dobré obchodní jmén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maximalizace zisk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676160"/>
            <a:ext cx="3505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organizační struktura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2362320"/>
            <a:ext cx="281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36232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9718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895480"/>
            <a:ext cx="4114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895480"/>
            <a:ext cx="5867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2895480"/>
            <a:ext cx="579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2438280"/>
            <a:ext cx="3504960" cy="5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2514240"/>
            <a:ext cx="167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ředitelství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429000"/>
            <a:ext cx="175284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429000"/>
            <a:ext cx="175284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3429000"/>
            <a:ext cx="213372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429000"/>
            <a:ext cx="190512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50496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skl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50496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obch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504960"/>
            <a:ext cx="251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péče o zákazník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50496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technický úse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64832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64832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6483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46483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46483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náku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465444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účetnictví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4648320"/>
            <a:ext cx="2057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464832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příjem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objednáve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5334120"/>
            <a:ext cx="1447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53341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distribu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5334120"/>
            <a:ext cx="12952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5200" y="53341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reklam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3200400"/>
            <a:ext cx="59436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419720"/>
            <a:ext cx="36576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5105520"/>
            <a:ext cx="16002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30481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51055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77320" y="51055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4038480"/>
            <a:ext cx="0" cy="38124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238880" y="4038480"/>
            <a:ext cx="0" cy="106704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IEW č.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5105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Předmět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První setkání s managementem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Cíl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Získat všeobecné informace o firmě, 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její činnosti a problémech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Datum a místo konání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19. listopadu 1999, sídl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 zadavatele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Interview realizovali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Aleš Dvorák a Tomáš Mudra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ffffff"/>
                </a:solidFill>
                <a:uFillTx/>
                <a:latin typeface="Times New Roman"/>
              </a:rPr>
              <a:t>Otázky a odpovědi: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 je předmět činnosti Vaší firmy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rodáváme multimédia po Internetu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Prodáváte pouze pře Internet nebo také prostřednictvím jiných distribučních kanálů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Ne, pouze přes Internet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de nakupujete zboží a které oddělení tuto činnost zajišťuj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U velkoobchodů. Touto činností se zabývá obchodní oddělen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m způsobem tvoříte nabídku Vašich výrobků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O to se stará technický úsek, který vytváří WWW stránky, na kterých si zákazníci objednávají zbož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teré oddělení se zabývá tvorbou cen zboží, které prodávát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Obchodní oddělen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Popište prosím distribuci zboží k zákazníkovi.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o zabalení zboží je posíláno poštou zákazníkovi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Využíváte pouze služeb České pošty, s.p.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Ano, je to jediný způsob, jakým doručujeme zbož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m způsobem máte zajištěno vyřizování reklamací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rostřednictvím telefonu a E-Mailu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terý způsob komunikace se zákazníkem upřednostňujet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E-Mail.</a:t>
            </a:r>
            <a:br>
              <a:rPr sz="1400"/>
            </a:b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0:32:22Z</dcterms:created>
  <dc:creator>Vratislav Šimáček</dc:creator>
  <dc:description/>
  <dc:language>en-US</dc:language>
  <cp:lastModifiedBy>Martin Prikryl</cp:lastModifiedBy>
  <dcterms:modified xsi:type="dcterms:W3CDTF">1999-12-10T11:22:16Z</dcterms:modified>
  <cp:revision>9</cp:revision>
  <dc:subject/>
  <dc:title>KDO JSME?</dc:title>
</cp:coreProperties>
</file>