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B4C5-3F60-4B6D-9CD6-8EDDB1E34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9E03-2C59-4A72-989F-38C07C28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F6B-2EDA-4248-BDD8-18FDA9A41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6F5F-BA1B-4036-AAA6-AB45987C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390F-A53E-4D5A-AF46-213FB9C7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C9BF-3488-4F8D-A3E3-0F1E0AB2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9D486-285F-47E2-A878-788BDA91D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CCDE-934F-4EBB-969A-63976FFF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DAC6-7A8E-47FC-9CC9-FAF5AA25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4BC6D-84EF-4DAE-B6D7-825247B9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088EC-44B0-44FA-AD9C-977B8BAD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30D-47A8-42C3-942B-F31C19EE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72CFE-DA5E-4FE4-AD3B-B89C8708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DFED-E81A-4008-AFBA-B5569F21A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CB16-C483-4611-B847-4EBE03002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7076-116A-4957-ACEB-4418EAD92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2F31F-51CC-4E85-90E5-D9E4D9904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553-86B9-4F29-8E08-2DB863635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F46C-3DD9-4D7D-B0D9-48A736D34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3E330-E90E-47EB-9B12-E05DAC415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DFA20-A3FA-4556-BBA6-E056AF07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9ED2-2577-4D0F-9EF3-CCFA200B9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D00E-9D18-4889-9B5E-AF7DAE118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49DA-07D9-4FD6-8360-D245307D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2CF2E-EC42-4F7A-9200-41D15089EEDF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DEAC-5FD4-40F8-B00D-C3CA54A4C929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s vítá na dnešní prezentac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2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Interview o jedné oblasti činnosti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podrobnější informace o příjmu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bjednávek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26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ou formu u Vás může zákazník objednat zboží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elefonem, E-Mailem, poštou nebo osobní návštěvou v sídle naší firmy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Kolik objednávek zvládáte zpracovávat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Přibližně 30 za hodin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Vyhodnocujete nějakým způsobem objednávky, případně ja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Ne, ale chtěli bychom tuto možnost implementovat do našeho informačního systému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Archivujete objednávky a jak dlouho do minulosti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Ano, jeden měsíc zpět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ý je výstup objednávky resp. odkud kam putuje objednávka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Z obchodního oddělení do skladu, dále do oddělení distribuce. Potom všechny objednávky zpracováváme pomocí počítače.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ffffff"/>
                </a:solidFill>
                <a:latin typeface="Times New Roman"/>
              </a:rPr>
              <a:t>Jak řešíte problém nevyřízených objednávek ?</a:t>
            </a:r>
            <a:br>
              <a:rPr sz="1600"/>
            </a:br>
            <a:r>
              <a:rPr b="0" i="1" lang="cs-CZ" sz="1600" spc="-1" strike="noStrike">
                <a:solidFill>
                  <a:srgbClr val="ffffff"/>
                </a:solidFill>
                <a:latin typeface="Times New Roman"/>
              </a:rPr>
              <a:t>Takové objednávky se ukládají do seznamu nevyřízených objednávek a postupně kontaktujeme zákazníky.</a:t>
            </a:r>
            <a:br>
              <a:rPr sz="1600"/>
            </a:br>
            <a:endParaRPr b="0" lang="en-US" sz="1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NALÝZA FIRM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0" y="228600"/>
          <a:ext cx="11658600" cy="71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116586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762120" y="609480"/>
          <a:ext cx="7924680" cy="59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24680" cy="59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304920" y="2184480"/>
          <a:ext cx="8534160" cy="4294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84480"/>
                    <a:ext cx="8534160" cy="429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609480" y="1378080"/>
            <a:ext cx="7086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stup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    Procesy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cc66"/>
                </a:solidFill>
                <a:latin typeface="Times New Roman"/>
              </a:rPr>
              <a:t>Výstup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2120" y="2819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1066680" y="2133720"/>
          <a:ext cx="7010640" cy="436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43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DO JS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UPRAVENÁ MATICE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ÁZE DAT/PROCES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609480" y="1981080"/>
          <a:ext cx="7391520" cy="4604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981080"/>
                    <a:ext cx="7391520" cy="46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ÁVRH ZMĚ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4419720"/>
            <a:ext cx="91440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osamostatnění oddělení účetnictv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doplnit mzdovou politiku a personální plánování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sklad a oddělení reklamací zahrnout pod obchodní úsek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* zajistit on-line kontrolu stavu zásob již při přijímání objednávek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676520" y="5028840"/>
            <a:ext cx="632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Vám přeje hezký a úspěšný d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logo" descr=""/>
          <p:cNvPicPr/>
          <p:nvPr/>
        </p:nvPicPr>
        <p:blipFill>
          <a:blip r:embed="rId1"/>
          <a:stretch/>
        </p:blipFill>
        <p:spPr>
          <a:xfrm>
            <a:off x="1600200" y="1676520"/>
            <a:ext cx="6024600" cy="1873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371600" y="5485680"/>
            <a:ext cx="6324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imes New Roman"/>
              </a:rPr>
              <a:t>poradenská firma zabývající se vaším Informačním systém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81080" y="3879360"/>
            <a:ext cx="5410440" cy="13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cc66"/>
                </a:solidFill>
                <a:latin typeface="Times New Roman"/>
              </a:rPr>
              <a:t>Zlatnická 785,Praha 8,180 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795 22 5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info</a:t>
            </a:r>
            <a:r>
              <a:rPr b="1" lang="en-US" sz="2000" spc="-1" strike="noStrike">
                <a:solidFill>
                  <a:srgbClr val="ffffcc"/>
                </a:solidFill>
                <a:latin typeface="Times New Roman"/>
              </a:rPr>
              <a:t>@ </a:t>
            </a:r>
            <a:r>
              <a:rPr b="1" lang="cs-CZ" sz="2000" spc="-1" strike="noStrike">
                <a:solidFill>
                  <a:srgbClr val="ffffcc"/>
                </a:solidFill>
                <a:latin typeface="Times New Roman"/>
              </a:rPr>
              <a:t>radanadzlato.c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RO KOHO PRACUJEME?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2120" y="735840"/>
            <a:ext cx="1676160" cy="50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název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sídlo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ředmět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popis předmětu činnosti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cíle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805320"/>
            <a:ext cx="6400800" cy="55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Odra,s.r.o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Jindřišská 16, 111 50, Praha 1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nákup zboží za účelem jeho dalšího prodeje a prodej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virtuální obchodní dům na Internet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docílit nejširší nabídky na trh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vytvořit si dobré obchodní jméno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ff66ff"/>
                </a:solidFill>
                <a:latin typeface="Times New Roman"/>
              </a:rPr>
              <a:t>*maximalizace zisku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85800" y="1676160"/>
            <a:ext cx="35053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imes New Roman"/>
              </a:rPr>
              <a:t>organizační struktura firmy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19520" y="2362320"/>
            <a:ext cx="2819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19520" y="2362320"/>
            <a:ext cx="3124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48120" y="297180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8120" y="2895480"/>
            <a:ext cx="4114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2895480"/>
            <a:ext cx="58672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2895480"/>
            <a:ext cx="5791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590920" y="2438280"/>
            <a:ext cx="3504960" cy="5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2514240"/>
            <a:ext cx="1676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ředitelství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666880" y="3429000"/>
            <a:ext cx="175284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53080" y="3429000"/>
            <a:ext cx="21337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1905120" cy="54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skl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19520" y="3504960"/>
            <a:ext cx="14475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obcho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00800" y="3504960"/>
            <a:ext cx="25146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péče o zákazník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3504960"/>
            <a:ext cx="20574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Times New Roman"/>
              </a:rPr>
              <a:t>technický úse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4648320"/>
            <a:ext cx="12189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464832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marketin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46483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19520" y="4648320"/>
            <a:ext cx="11430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464832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nákup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19520" y="4654440"/>
            <a:ext cx="1218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účetnictví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38480" y="4648320"/>
            <a:ext cx="2057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38480" y="464832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příjem</a:t>
            </a:r>
            <a:r>
              <a:rPr b="1" lang="en-US" sz="1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objednáve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5334120"/>
            <a:ext cx="144756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86728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distribuc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315200" y="5334120"/>
            <a:ext cx="1295280" cy="3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15200" y="5334120"/>
            <a:ext cx="1219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Times New Roman"/>
              </a:rPr>
              <a:t>reklam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048120"/>
            <a:ext cx="0" cy="152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676520" y="3200400"/>
            <a:ext cx="5943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4419720"/>
            <a:ext cx="36576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477120" y="5105520"/>
            <a:ext cx="1600200" cy="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43400" y="30481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5053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0120" y="320040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4290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029200" y="44197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771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7320" y="5105520"/>
            <a:ext cx="0" cy="15228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05320" y="4038480"/>
            <a:ext cx="0" cy="3812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7238880" y="4038480"/>
            <a:ext cx="0" cy="1067040"/>
          </a:xfrm>
          <a:prstGeom prst="line">
            <a:avLst/>
          </a:prstGeom>
          <a:ln w="32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212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NTERVIEW č.1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5105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Předmět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První setkání s managementem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Cíl interview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Získat všeobecné informace o firmě, 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její činnosti a problémech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Datum a místo konání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19. listopadu 1999, sídlo 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firmy zadavatele</a:t>
            </a:r>
            <a:br>
              <a:rPr sz="2800"/>
            </a:br>
            <a:r>
              <a:rPr b="0" i="1" lang="cs-CZ" sz="2800" spc="-1" strike="noStrike">
                <a:solidFill>
                  <a:srgbClr val="ffffcc"/>
                </a:solidFill>
                <a:latin typeface="Times New Roman"/>
              </a:rPr>
              <a:t>Interview realizovali: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Aleš Dvorák a Tomáš Mudra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571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 u="sng">
                <a:solidFill>
                  <a:srgbClr val="ffffff"/>
                </a:solidFill>
                <a:uFillTx/>
                <a:latin typeface="Times New Roman"/>
              </a:rPr>
              <a:t>Otázky a odpovědi: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 je předmět činnosti Vaší firmy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dáváme multimédia po Internet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rodáváte pouze pře Internet nebo také prostřednictvím jiných distribučních kanál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Ne, pouze přes Internet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de nakupujete zboží a které oddělení tuto činnost zajišťuj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U velkoobchodů. Touto činností se zabývá 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tvoříte nabídku Vašich výrobků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 to se stará technický úsek, který vytváří WWW stránky, na kterých si zákazníci objednávají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é oddělení se zabývá tvorbou cen zboží, které prodává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Obchodní oddělen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Popište prosím distribuci zboží k zákazníkovi.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o zabalení zboží je posíláno poštou zákazníkovi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Využíváte pouze služeb České pošty, s.p.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Ano, je to jediný způsob, jakým doručujeme zboží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Jakým způsobem máte zajištěno vyřizování reklamací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Prostřednictvím telefonu a E-Mailu.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ffffff"/>
                </a:solidFill>
                <a:latin typeface="Times New Roman"/>
              </a:rPr>
              <a:t>Který způsob komunikace se zákazníkem upřednostňujete ?</a:t>
            </a:r>
            <a:br>
              <a:rPr sz="1400"/>
            </a:br>
            <a:r>
              <a:rPr b="0" i="1" lang="cs-CZ" sz="1400" spc="-1" strike="noStrike">
                <a:solidFill>
                  <a:srgbClr val="ffffff"/>
                </a:solidFill>
                <a:latin typeface="Times New Roman"/>
              </a:rPr>
              <a:t>E-Mail.</a:t>
            </a:r>
            <a:br>
              <a:rPr sz="1400"/>
            </a:br>
            <a:endParaRPr b="0" lang="en-US" sz="1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0:32:22Z</dcterms:created>
  <dc:creator>Vratislav Šimáček</dc:creator>
  <dc:description/>
  <dc:language>en-US</dc:language>
  <cp:lastModifiedBy>Martin Prikryl</cp:lastModifiedBy>
  <dcterms:modified xsi:type="dcterms:W3CDTF">1999-12-10T11:22:16Z</dcterms:modified>
  <cp:revision>9</cp:revision>
  <dc:subject/>
  <dc:title>KDO JSME?</dc:title>
</cp:coreProperties>
</file>