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F7C-164C-4537-867A-2CBB4CB5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31D-E6D4-43FF-B4B4-E2BB211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7D5-E185-4D7B-B99D-390BD938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944-E38B-4DB9-A4EB-B92A3A15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1733-B412-402C-B522-6882BCCB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F9A2-3CCC-4258-89D3-128BDEE1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17B1-6860-49F0-B7E1-B177374C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6E3-E7B5-4D29-876B-DB262D7D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D94B-E360-4CC8-8FC4-DDFE7C04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0B83-F1CE-407E-85B9-66C6119B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4EC4-E86D-40C0-8786-3E50F367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349-7ECF-43BF-B780-FBA6A82F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F12D-AAE4-42E4-A716-15D1490F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8BCC-E640-4E33-BB1D-7E7A95F8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2B59-5941-4B7D-B763-D23838DD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AFED-AF33-4130-B1F8-42203A7E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B5E0-FB5E-4447-B64E-E7A22901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716-8858-46F4-BA3D-D6D7A064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D06-7796-473E-B42E-1C70C64D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EE6-A802-4B97-852B-3198C95B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2E8-1626-4A8F-97A1-6B112AB3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92F-A8FA-460D-97BC-C732A53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E93-E571-415C-938B-480C4347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45E-F3B7-467F-807E-6B89F3B8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0E36-C6B3-47FB-8496-15BEDEAC30AD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3791-94E0-4F1E-AFEF-872C933BDD90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s vítá na dnešní prezentac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Interview o jedné oblasti činnosti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podrobnější informace o příjmu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bjednávek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26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ou formu u Vás může zákazník objednat zboží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elefonem, E-Mailem, poštou nebo osobní návštěvou v sídle naší firmy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Kolik objednávek zvládáte zpracovávat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Přibližně 30 za hodin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Vyhodnocujete nějakým způsobem objednávky, případně ja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Ne, ale chtěli bychom tuto možnost implementovat do našeho informačního systém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Archivujete objednávky a jak dlouho do minulosti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Ano, jeden měsíc zpět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ý je výstup objednávky resp. odkud kam putuje objednávka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Z obchodního oddělení do skladu, dále do oddělení distribuce. Potom všechny objednávky zpracováváme pomocí počítače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 řešíte problém nevyřízených objednáve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akové objednávky se ukládají do seznamu nevyřízených objednávek a postupně kontaktujeme zákazníky.</a:t>
            </a:r>
            <a:br>
              <a:rPr sz="1600"/>
            </a:b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ÝZA FIR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28600"/>
          <a:ext cx="11658600" cy="71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116586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62120" y="609480"/>
          <a:ext cx="792468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246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04920" y="2184480"/>
          <a:ext cx="8534160" cy="42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84480"/>
                    <a:ext cx="85341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09480" y="137808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stup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    Procesy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ýstu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066680" y="2133720"/>
          <a:ext cx="7010640" cy="43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43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DO JS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RAVENÁ 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981080"/>
          <a:ext cx="7391520" cy="46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39152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ÁVRH ZMĚ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419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osamostatnění oddělení účetnictv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doplnit mzdovou politiku a personální plánován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sklad a oddělení reklamací zahrnout pod obchodní úse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zajistit on-line kontrolu stavu zásob již při přijímání objednávek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m přeje hezký a úspěšný d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71600" y="548568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oradenská firma zabývající se vaším Informačním systém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879360"/>
            <a:ext cx="541044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Zlatnická 785,Praha 8,180 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795 22 5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info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@ </a:t>
            </a: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radanadzlato.c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 KOHO PRACUJE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735840"/>
            <a:ext cx="167616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název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sídl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ředmět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opis předmětu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íle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805320"/>
            <a:ext cx="640080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Odra,s.r.o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Jindřišská 16, 111 50, Praha 1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nákup zboží za účelem jeho dalšího prodeje a prodej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virtuální obchodní dům na Internet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docílit nejširší nabídky na trh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vytvořit si dobré obchodní jmén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maximalizace zisk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676160"/>
            <a:ext cx="35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organizační struktura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362320"/>
            <a:ext cx="281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3623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9718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9548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954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89548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438280"/>
            <a:ext cx="3504960" cy="5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514240"/>
            <a:ext cx="167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ředitelství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429000"/>
            <a:ext cx="21337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429000"/>
            <a:ext cx="19051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obch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50496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éče o zákazník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50496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technický ú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64832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64832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6483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46483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6483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náku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65444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účetnictví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46483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64832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říje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objednáv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5334120"/>
            <a:ext cx="1447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distribu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5334120"/>
            <a:ext cx="12952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rekla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3200400"/>
            <a:ext cx="5943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19720"/>
            <a:ext cx="3657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5105520"/>
            <a:ext cx="16002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0481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4038480"/>
            <a:ext cx="0" cy="3812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8880" y="4038480"/>
            <a:ext cx="0" cy="10670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První setkání s managementem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všeobecné informace o firmě, 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ejí činnosti a problémech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19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 je předmět činnosti Vaší firmy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dáváme multimédia po Internet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rodáváte pouze pře Internet nebo také prostřednictvím jiných distribučních kanál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Ne, pouze přes Internet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de nakupujete zboží a které oddělení tuto činnost zajišťuj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U velkoobchodů. Touto činností se zabývá 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tvoříte nabídku Vašich výrobk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 to se stará technický úsek, který vytváří WWW stránky, na kterých si zákazníci objednávají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é oddělení se zabývá tvorbou cen zboží, které prodává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opište prosím distribuci zboží k zákazníkovi.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o zabalení zboží je posíláno poštou zákazníkovi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Využíváte pouze služeb České pošty, s.p.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Ano, je to jediný způsob, jakým doručujeme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máte zajištěno vyřizování reklamací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střednictvím telefonu a E-Mail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ý způsob komunikace se zákazníkem upřednostňuje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E-Mail.</a:t>
            </a:r>
            <a:br>
              <a:rPr sz="1400"/>
            </a:b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0:32:22Z</dcterms:created>
  <dc:creator>Vratislav Šimáček</dc:creator>
  <dc:description/>
  <dc:language>en-US</dc:language>
  <cp:lastModifiedBy>Martin Prikryl</cp:lastModifiedBy>
  <dcterms:modified xsi:type="dcterms:W3CDTF">1999-12-10T11:22:16Z</dcterms:modified>
  <cp:revision>9</cp:revision>
  <dc:subject/>
  <dc:title>KDO JSME?</dc:title>
</cp:coreProperties>
</file>