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9CA4-0B21-47D5-A1D2-A490DFE4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3A11-5612-4F6F-98AE-7C09A447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BA39-3964-4FB2-847C-67FFC5BA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AC94-3992-4769-80F2-ABC2CD2D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993A-8087-4FCC-B66E-7FF5A3D8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4896-7BF1-4C20-BEEE-799D1036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1D8A-80D8-4699-B437-31B53372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AB45-7107-4601-B0E0-B86A737A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455F-3810-4080-9BCD-739B053D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87D4-EF91-4F49-9873-55AEF01E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6A8F-9117-4D7D-8BF3-E7ABEAE3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A11A-83A5-439F-B49C-ABC93E5C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97A0-3408-422F-A183-A3CD443F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5107-EF52-4F43-B0F7-20C46970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DDEE-19DD-423A-8521-A726544A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327E-6C27-4AA4-B0F6-1EB6BDB0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8166-9464-4882-AD7F-E8F3F313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F3E8-4F74-42EF-88C8-56A33C4B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0C3C-F7C7-4F6B-ADA5-4EF63249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66F3-4FEF-4532-AE1D-B16446DA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594D-ADD4-4FAA-B750-59369684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DEE6-F769-4EDE-99F2-F3F828EE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FBC0-E88D-4D9B-B0EE-9FB0387B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C44A-38F4-40D1-BFBC-0157F930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8640"/>
            <a:ext cx="8152920" cy="1599840"/>
            <a:chOff x="457200" y="99864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840" y="998640"/>
              <a:ext cx="572328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3760" y="1163520"/>
              <a:ext cx="5723280" cy="126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2360" y="1384200"/>
              <a:ext cx="572040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972A-A398-4896-B27C-1FCE397A12E6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80880" y="2362320"/>
            <a:ext cx="8152920" cy="1447200"/>
            <a:chOff x="380880" y="2362320"/>
            <a:chExt cx="8152920" cy="1447200"/>
          </a:xfrm>
        </p:grpSpPr>
        <p:sp>
          <p:nvSpPr>
            <p:cNvPr id="47" name=""/>
            <p:cNvSpPr/>
            <p:nvPr/>
          </p:nvSpPr>
          <p:spPr>
            <a:xfrm>
              <a:off x="2810520" y="2362320"/>
              <a:ext cx="5723280" cy="144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37440" y="2511360"/>
              <a:ext cx="5723280" cy="114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96040" y="2710800"/>
              <a:ext cx="5720400" cy="74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0880" y="3004200"/>
              <a:ext cx="7918560" cy="14904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7800-31E9-48AE-89A2-2E30F610B1C2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M.P.J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6324480" cy="37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ruktura poboč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66680" y="2133720"/>
          <a:ext cx="70106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70106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838080" y="586728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7-20 zaměstnanců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Zaměstnanc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ede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6 vedoucích pracovník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 dalších 11 oso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1 poboč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7-20 zaměstnanc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elk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216 oso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oučasná situa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zitiv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obré jméno společ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obrá technická základ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ejsou nutné další okamžité invest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lidský potenciál (kvalifikovaní pracovníc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oučasná situa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egativ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ysoká zadluženo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btížný přístup k finančním zdrojů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klesající obr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špatná komunikac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rganizac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Obrat a zis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52320" y="2081160"/>
          <a:ext cx="776952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2081160"/>
                    <a:ext cx="776952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Zadluženo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55560" y="2081160"/>
          <a:ext cx="776124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2081160"/>
                    <a:ext cx="776124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Informační systé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žadavek na informační systé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yhlášení veřejné obchodní soutě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ýběr nejvhodnějšího kandidá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úzká spolupráce na vytvoření 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žadavky na 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Komunikace vedení-pobočk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školící centr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lepšovací návrh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Komunikace s partner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 automobilkam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 partnerskými autoservis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žadavky na 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Vedení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lánování, účetnictví, personalis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perační centr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Pobočk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účetnictví, sklad, mz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bjednávky, faktury..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žadavky na 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Operační centrum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vidence vlastních vozid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avigování vozidel (odtahových i servisních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polupráce s ostatními autoservis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polupráce s automobilkam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skytované služb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Kvalitní autorizovaný servis osobních vozid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Odtahová služb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Měření emis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5" name="FIAT" descr=""/>
          <p:cNvPicPr/>
          <p:nvPr/>
        </p:nvPicPr>
        <p:blipFill>
          <a:blip r:embed="rId1"/>
          <a:stretch/>
        </p:blipFill>
        <p:spPr>
          <a:xfrm>
            <a:off x="5181480" y="5638680"/>
            <a:ext cx="1676520" cy="576360"/>
          </a:xfrm>
          <a:prstGeom prst="rect">
            <a:avLst/>
          </a:prstGeom>
          <a:ln w="0">
            <a:noFill/>
          </a:ln>
        </p:spPr>
      </p:pic>
      <p:pic>
        <p:nvPicPr>
          <p:cNvPr id="96" name="OPELx" descr=""/>
          <p:cNvPicPr/>
          <p:nvPr/>
        </p:nvPicPr>
        <p:blipFill>
          <a:blip r:embed="rId2"/>
          <a:stretch/>
        </p:blipFill>
        <p:spPr>
          <a:xfrm>
            <a:off x="2819520" y="3886200"/>
            <a:ext cx="1550880" cy="1155600"/>
          </a:xfrm>
          <a:prstGeom prst="rect">
            <a:avLst/>
          </a:prstGeom>
          <a:ln w="0">
            <a:noFill/>
          </a:ln>
        </p:spPr>
      </p:pic>
      <p:pic>
        <p:nvPicPr>
          <p:cNvPr id="97" name="SKODA" descr=""/>
          <p:cNvPicPr/>
          <p:nvPr/>
        </p:nvPicPr>
        <p:blipFill>
          <a:blip r:embed="rId3"/>
          <a:stretch/>
        </p:blipFill>
        <p:spPr>
          <a:xfrm>
            <a:off x="990720" y="3886200"/>
            <a:ext cx="1218960" cy="1165320"/>
          </a:xfrm>
          <a:prstGeom prst="rect">
            <a:avLst/>
          </a:prstGeom>
          <a:ln w="0">
            <a:noFill/>
          </a:ln>
        </p:spPr>
      </p:pic>
      <p:pic>
        <p:nvPicPr>
          <p:cNvPr id="98" name="VW" descr=""/>
          <p:cNvPicPr/>
          <p:nvPr/>
        </p:nvPicPr>
        <p:blipFill>
          <a:blip r:embed="rId4"/>
          <a:stretch/>
        </p:blipFill>
        <p:spPr>
          <a:xfrm>
            <a:off x="4876920" y="3886200"/>
            <a:ext cx="1217520" cy="1177920"/>
          </a:xfrm>
          <a:prstGeom prst="rect">
            <a:avLst/>
          </a:prstGeom>
          <a:ln w="0">
            <a:noFill/>
          </a:ln>
        </p:spPr>
      </p:pic>
      <p:pic>
        <p:nvPicPr>
          <p:cNvPr id="99" name="LOGOJAGU" descr=""/>
          <p:cNvPicPr/>
          <p:nvPr/>
        </p:nvPicPr>
        <p:blipFill>
          <a:blip r:embed="rId5"/>
          <a:stretch/>
        </p:blipFill>
        <p:spPr>
          <a:xfrm>
            <a:off x="3429000" y="5562720"/>
            <a:ext cx="1600200" cy="841320"/>
          </a:xfrm>
          <a:prstGeom prst="rect">
            <a:avLst/>
          </a:prstGeom>
          <a:ln w="0">
            <a:noFill/>
          </a:ln>
        </p:spPr>
      </p:pic>
      <p:pic>
        <p:nvPicPr>
          <p:cNvPr id="100" name="LOGONISAN" descr=""/>
          <p:cNvPicPr/>
          <p:nvPr/>
        </p:nvPicPr>
        <p:blipFill>
          <a:blip r:embed="rId6"/>
          <a:stretch/>
        </p:blipFill>
        <p:spPr>
          <a:xfrm>
            <a:off x="533520" y="5486400"/>
            <a:ext cx="1218960" cy="905040"/>
          </a:xfrm>
          <a:prstGeom prst="rect">
            <a:avLst/>
          </a:prstGeom>
          <a:ln w="0">
            <a:noFill/>
          </a:ln>
        </p:spPr>
      </p:pic>
      <p:pic>
        <p:nvPicPr>
          <p:cNvPr id="101" name="bmw" descr=""/>
          <p:cNvPicPr/>
          <p:nvPr/>
        </p:nvPicPr>
        <p:blipFill>
          <a:blip r:embed="rId7"/>
          <a:stretch/>
        </p:blipFill>
        <p:spPr>
          <a:xfrm>
            <a:off x="6934320" y="3886200"/>
            <a:ext cx="1164960" cy="1170000"/>
          </a:xfrm>
          <a:prstGeom prst="rect">
            <a:avLst/>
          </a:prstGeom>
          <a:ln w="0">
            <a:noFill/>
          </a:ln>
        </p:spPr>
      </p:pic>
      <p:pic>
        <p:nvPicPr>
          <p:cNvPr id="102" name="FORD" descr=""/>
          <p:cNvPicPr/>
          <p:nvPr/>
        </p:nvPicPr>
        <p:blipFill>
          <a:blip r:embed="rId8"/>
          <a:stretch/>
        </p:blipFill>
        <p:spPr>
          <a:xfrm>
            <a:off x="7010280" y="5486400"/>
            <a:ext cx="1828800" cy="736560"/>
          </a:xfrm>
          <a:prstGeom prst="rect">
            <a:avLst/>
          </a:prstGeom>
          <a:ln w="0">
            <a:noFill/>
          </a:ln>
        </p:spPr>
      </p:pic>
      <p:pic>
        <p:nvPicPr>
          <p:cNvPr id="103" name="AUDI" descr=""/>
          <p:cNvPicPr/>
          <p:nvPr/>
        </p:nvPicPr>
        <p:blipFill>
          <a:blip r:embed="rId9"/>
          <a:stretch/>
        </p:blipFill>
        <p:spPr>
          <a:xfrm>
            <a:off x="1905120" y="5486400"/>
            <a:ext cx="1371600" cy="88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ontak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Elektronická pošt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artin Přikryl: </a:t>
            </a:r>
            <a:r>
              <a:rPr b="0" lang="cs-CZ" sz="2800" spc="-1" strike="noStrike">
                <a:solidFill>
                  <a:srgbClr val="ffffcc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cc"/>
                </a:solidFill>
                <a:latin typeface="Courier New"/>
              </a:rPr>
              <a:t>prim14@vse.cz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Ko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ěrský Pavel: </a:t>
            </a:r>
            <a:r>
              <a:rPr b="0" lang="cs-CZ" sz="2800" spc="-1" strike="noStrike">
                <a:solidFill>
                  <a:srgbClr val="ffffcc"/>
                </a:solidFill>
                <a:latin typeface="Courier New"/>
              </a:rPr>
              <a:t>xkobp03</a:t>
            </a:r>
            <a:r>
              <a:rPr b="0" lang="en-US" sz="2800" spc="-1" strike="noStrike">
                <a:solidFill>
                  <a:srgbClr val="ffffcc"/>
                </a:solidFill>
                <a:latin typeface="Courier New"/>
              </a:rPr>
              <a:t>@vse.cz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Telefon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/fax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2/471 600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ontak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Adres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tradovická 72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raha 4 - Kamý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42 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one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cc"/>
                </a:solidFill>
                <a:latin typeface="Times New Roman"/>
              </a:rPr>
              <a:t>Děkujeme za pozornost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1990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založení společnosti s r. o. v Klatov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199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6 nových poboček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199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ocenění za nejlepší autoservis v České republi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7" name="OCENENI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4267440" cy="3759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33"/>
                </a:solidFill>
                <a:latin typeface="Times New Roman"/>
              </a:rPr>
              <a:t>1996-7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árůst konkurence, pokles zákazník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inanční problém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33"/>
                </a:solidFill>
                <a:latin typeface="Times New Roman"/>
              </a:rPr>
              <a:t>199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ový majitel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řestěhování vedení do Prah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žadavek na nový 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slání společnos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komplexní služby pro majitele osobních motorových vozidel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ískání významu společnosti pro naše zákazníky - splněním všech př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Cíle společnos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bnovení dominantního postavení na trh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ískat okruh stálých zákazník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nížení náklad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hodnocení nových invest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ruktura společnos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371600" y="2438280"/>
          <a:ext cx="650088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65008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838080" y="586728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1 poboč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ruktura veden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01640" y="2514600"/>
          <a:ext cx="789300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2514600"/>
                    <a:ext cx="789300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586728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elkem 17 oso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6800" y="510372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cc"/>
                </a:solidFill>
                <a:latin typeface="Arial"/>
              </a:rPr>
              <a:t>ing. Drozd Jaromí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4T06:50:40Z</dcterms:created>
  <dc:creator>Martin Přikryl</dc:creator>
  <dc:description/>
  <dc:language>en-US</dc:language>
  <cp:lastModifiedBy>Učebny</cp:lastModifiedBy>
  <dcterms:modified xsi:type="dcterms:W3CDTF">1998-10-08T09:01:54Z</dcterms:modified>
  <cp:revision>13</cp:revision>
  <dc:subject/>
  <dc:title>M.P.J</dc:title>
</cp:coreProperties>
</file>